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magnification factor (CMF), calculated between pairs of recording sites in V1, as a function of mean eccentricity of centers of receptive fields recorded at these sites in 1 animal (Piglet). Thick continuous line: best-fitting power function calculated on basis of a principal axis regression. Coarse dashed line at left: estimate of magnification factor in central representation (&lt;5°), which includes a correction factor based on size of representation of area centralis in V1 cortex (see Eq. 3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stimate of point image size as a function of eccentricity in V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ocation and visuotopy of V2. Top: dorsolateral (left) and medial (right) views of left cerebral hemisphere of a galago, indicating location of V1, V2, and middle temporal area (MT). Bottom: region enclosed by box, shown magnified, illustrating visuotopic organization of V2 (present results) and MT (on the basis of architectonical results of Preuss and Goldman-Rakic 1991a and physiological recording data of Allman et al. 1973). Visuotopy of V2 is indicated according to symbols shown in inset (bottom). Arrows: continuity of V2 belt from lateral to medial views of cortex.</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between positions of recording sites and receptive fields in dorsal V2. Top left: bidimensional reconstruction of caudal cortex in 1 animal, illustrating extent of V2, MT, and area prostriata (estimated borders are indicated in gray). Bottom left: region enclosed by box, shown magnified, plots location of 39 recording sites in dorsal part of V2. To facilitate presentation, these sites were connected to form 7 arbitrary sequences, from lateral (1–5) to medial (37–39) in cortex. Other plots: location of receptive fields recorded from neurons at each of these sites, in diagrams of central (top row) and peripheral (right; bottom row) visual field. STS: superior temporal sulc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 sequences of receptive fields and recording sites crossing border between V2 and presumptive dorsomedial visual area (DM) at different mediolateral levels. A–C each illustrate a dorsal view of brain (left) indicating recording sites and estimates of borders of V1, V2, and DM. Corresponding receptive fields in V2 (middle) and DM (right) are illustrated relative to HM and VM (thick lines) and blind spot (gr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relation between positions of recording sites and receptive fields in ventral V2. Left: bidimensional reconstruction of caudal cortex in 1 animal, illustrating extent of V2 and area prostriata (estimated borders indicated in gray). Middle: region enclosed by box, shown magnified, plots location of recording sites in ventral part of V2 and in other areas. To facilitate presentation, recording sites within V2 were connected to form 6 arbitrary sequences, from dorsolateral (1–7) to ventromedial (48–51) in cortex. Thick dashed line: HM representation in ventral V2. Plus and minus signs indicate whether receptive fields recorded in area rostral to V2 had centers in upper and lower quadrants, respectively. Right: location of receptive field centers recorded from neurons at each V2 site, in a diagram of contralateral visual field. Region of visual field encompassed by borders of all V2 receptive fields is indicated in light gray. Receptive fields recorded from neurons at 3 sites rostral to V2 (a–c) are also illustrated to give an indication of their siz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eptive field size of V2 neurons (pooled data from 2 animals). Gray squares: data obtained from recording sites in dorsal V2. White squares: data obtained from recording sites in ventral V2 that yielded receptive fields centered in upper quadrant or HM. Black triangles: data obtained from recording sites in ventral V2 that yielded receptive fields centered in lower quadrant. Power function that best fits data (thick continuous line): receptive field size (deg) = 0.76 × eccentricity0.8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rtical magnification factors in V2, measured between points in cortex located along imaginary lines parallel (▵; thick continuous line) and perpendicular (□; thick dashed line) to V1/V2 bord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eptive fields of neurons recorded in areas surrounding DM in 2 animals. Top row: dorsal views of caudal neocortex, illustrating recording sites within presumed borders of DM (•) and outside DM (○). Second row: extent of visual field represented within estimated boundaries of DM. Third row: receptive fields of neurons recorded in sites immediately rostral to estimated border of DM. Four receptive fields that may be part of peripheral lower quadrant representation of DM (fields 1–4) are indicated in gray. Bottom left: receptive fields of neurons recorded in sites immediately medial to DM. Bottom right: extent of visual field represented in cortex immediately lateral to D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opographic relationships of V1, V2, and prostriata in a hypothetical nonprimate, Galago, and a hypothetical simian prima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visuotopic organization and extent of V1 in Galago garnetti. A and B: dorsolateral and medial views of a left hemisphere in which banks of calcarine sulcus have been separated. Extent of V1 is indicated in white. Visuotopy of this area is illustrated according to following symbols (see inset): black squares, representation of vertical meridian (VM); white circles, representation of horizontal meridian (HM); thin continuous lines, isoeccentricity contours (5, 10, 20, 40, 60, and 80°); dashed lines, 2 additional isopolar contours (−45 and + 45°). C: projection of all receptive fields recorded in V1 of 4 animals onto an equatorial-azimuthal chart, illustrating extent of visual field represented in V1 on 1 side of brain. Each division of chart corresponds to a 10° interval of azimuths and elevations. Black circle: location of blind spo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ytochrome oxidase patterns of the 1st and 2nd visual areas (V1 and V2, respectively) and prostriata, illustrated in parasagittal sections observed through a Zeiss Axiophot microscope equipped with a digital video capture system (Seescan LC100M). Caudal is left, dorsal is up. A: border between V1 and V2 in dorsolateral cortex. Downward arrows atop section: cytochrome oxidase “blobs” in V1. Rightward arrow within section: row of densely stained cells in layer 5, which characterizes certain regions of V2. Border between V1 and V2 coincides with tip of this arrow. B: border between V1 and area prostriata (pro) in dorsal bank of calcarine sulcus (at a level approximately corresponding to section in Fig. 4 C). Arrows: cytochrome oxidase blobs of V1. Scale bar in A: 0.5 m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igital video frames illustrating myelin patterns and transitions between V1, V2, and visually responsive ventral cortex rostral to V2 (V?). Caudal is right, dorsal is up. A: myelin pattern of V1. Parts of infragranular layers are sectioned tangentially in ventral part. B: oblique section through border between V1 and V2 (at a level similar to that of section in Fig. 4 D), illustrating disappearance of less myelinated “cleft” between inner and outer bands of Baillarger, moving from V1 to V2. C: crossing rostral border of V2, supragranular layers become relatively broader, and “matted” appearance of V2 in myelin stains gives way to areas where bands of Baillarger are well separated. Arrows: approximate location of borders of V2. Scale bar in A: 0.5 m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1185840" y="4787640"/>
            <a:ext cx="5407200" cy="382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onstruction of visuotopy of V1 in “flat” representations of cortical surface. A: bidimensional reconstruction of shape of V1, based on alignment of contours of layer 4 from a series of parasagittal sections (Van Essen and Maunsell 1980). To aid in localization, different regions of V1 are shaded in different tones of gray. B: map of eccentricity representation. Value of receptive field center eccentricity corresponding to each recording site illustrated in Fig. 4 is indicated (different symbols indicate different parasagittal levels illustrated in Fig. 4). On the basis of these values, isoeccentricity lines (5, 10, 20, 40, 60, and 80°, left to right) were interpolated by eye to fit individual observations. C: map of polar angle representation, illustrating 5 interpolated isopolar lines (−60°, −30°, HM, +30° and + 60°, from dorsal to ventral in cort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visuotopic maps of V1 in Galago. Top: diagrammatic map based on power function describing relationship between cortical magnification factor and eccentricity (Fig. 7). Middle and bottom: summaries of data in 2 animals. Animal “Linda” (bottom) lacked recording sites near occipital pole, and therefore there is a gap in representation where visuotopic coordinates could not be estimated. Symbols used in representation of visuotopic coordinates are similar to those employed in Fig. 3, and are indicated in inse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ceptive field size (square root of receptive field area) of V1 neurons as a function of eccentricity in 1 animal (Piglet). Thick continuous line: best-fitting power function calculated on basis of a principal axis regre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Visual Field Representation in Striate and Prestriate Cortices of a Prosimian Primate (Galago garnetti)</a:t>
            </a:r>
            <a:r>
              <a:rPr b="1"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Marcello G. P. Rosa, Vivien A. Casagrande, Todd Preuss, and Jon H. Kaa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JP - JN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77(6):3193-3217</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1, 199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magnification factor (CMF), calculated between pairs of recording sites in V1, as a function of mean eccentricity of centers of receptive fields recorded at these sites in 1 animal (Piglet). </a:t>
            </a:r>
            <a:endParaRPr b="0" lang="en-US" sz="1600" spc="-1" strike="noStrike">
              <a:solidFill>
                <a:srgbClr val="000000"/>
              </a:solidFill>
              <a:latin typeface="Times New Roman"/>
            </a:endParaRPr>
          </a:p>
        </p:txBody>
      </p:sp>
      <p:pic>
        <p:nvPicPr>
          <p:cNvPr id="87" name="" descr=""/>
          <p:cNvPicPr/>
          <p:nvPr/>
        </p:nvPicPr>
        <p:blipFill>
          <a:blip r:embed="rId1"/>
          <a:stretch/>
        </p:blipFill>
        <p:spPr>
          <a:xfrm>
            <a:off x="5133960" y="6602400"/>
            <a:ext cx="4467240" cy="712800"/>
          </a:xfrm>
          <a:prstGeom prst="rect">
            <a:avLst/>
          </a:prstGeom>
          <a:ln w="0">
            <a:noFill/>
          </a:ln>
        </p:spPr>
      </p:pic>
      <p:pic>
        <p:nvPicPr>
          <p:cNvPr id="88" name="" descr=""/>
          <p:cNvPicPr/>
          <p:nvPr/>
        </p:nvPicPr>
        <p:blipFill>
          <a:blip r:embed="rId2"/>
          <a:stretch/>
        </p:blipFill>
        <p:spPr>
          <a:xfrm>
            <a:off x="2109960" y="1079640"/>
            <a:ext cx="5865480" cy="5394240"/>
          </a:xfrm>
          <a:prstGeom prst="rect">
            <a:avLst/>
          </a:prstGeom>
          <a:ln w="0">
            <a:noFill/>
          </a:ln>
        </p:spPr>
      </p:pic>
      <p:sp>
        <p:nvSpPr>
          <p:cNvPr id="89" name=""/>
          <p:cNvSpPr/>
          <p:nvPr/>
        </p:nvSpPr>
        <p:spPr>
          <a:xfrm>
            <a:off x="21099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9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stimate of point image size as a function of eccentricity in V1.</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5133960" y="6602400"/>
            <a:ext cx="4467240" cy="712800"/>
          </a:xfrm>
          <a:prstGeom prst="rect">
            <a:avLst/>
          </a:prstGeom>
          <a:ln w="0">
            <a:noFill/>
          </a:ln>
        </p:spPr>
      </p:pic>
      <p:pic>
        <p:nvPicPr>
          <p:cNvPr id="93" name="" descr=""/>
          <p:cNvPicPr/>
          <p:nvPr/>
        </p:nvPicPr>
        <p:blipFill>
          <a:blip r:embed="rId2"/>
          <a:stretch/>
        </p:blipFill>
        <p:spPr>
          <a:xfrm>
            <a:off x="1708200" y="1079640"/>
            <a:ext cx="6669000" cy="5394240"/>
          </a:xfrm>
          <a:prstGeom prst="rect">
            <a:avLst/>
          </a:prstGeom>
          <a:ln w="0">
            <a:noFill/>
          </a:ln>
        </p:spPr>
      </p:pic>
      <p:sp>
        <p:nvSpPr>
          <p:cNvPr id="94" name=""/>
          <p:cNvSpPr/>
          <p:nvPr/>
        </p:nvSpPr>
        <p:spPr>
          <a:xfrm>
            <a:off x="17082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9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ocation and visuotopy of V2. </a:t>
            </a:r>
            <a:endParaRPr b="0" lang="en-US" sz="1600" spc="-1" strike="noStrike">
              <a:solidFill>
                <a:srgbClr val="000000"/>
              </a:solidFill>
              <a:latin typeface="Times New Roman"/>
            </a:endParaRPr>
          </a:p>
        </p:txBody>
      </p:sp>
      <p:pic>
        <p:nvPicPr>
          <p:cNvPr id="97" name="" descr=""/>
          <p:cNvPicPr/>
          <p:nvPr/>
        </p:nvPicPr>
        <p:blipFill>
          <a:blip r:embed="rId1"/>
          <a:stretch/>
        </p:blipFill>
        <p:spPr>
          <a:xfrm>
            <a:off x="5133960" y="6602400"/>
            <a:ext cx="4467240" cy="712800"/>
          </a:xfrm>
          <a:prstGeom prst="rect">
            <a:avLst/>
          </a:prstGeom>
          <a:ln w="0">
            <a:noFill/>
          </a:ln>
        </p:spPr>
      </p:pic>
      <p:pic>
        <p:nvPicPr>
          <p:cNvPr id="98" name="" descr=""/>
          <p:cNvPicPr/>
          <p:nvPr/>
        </p:nvPicPr>
        <p:blipFill>
          <a:blip r:embed="rId2"/>
          <a:stretch/>
        </p:blipFill>
        <p:spPr>
          <a:xfrm>
            <a:off x="2825640" y="1079640"/>
            <a:ext cx="4432320" cy="5394240"/>
          </a:xfrm>
          <a:prstGeom prst="rect">
            <a:avLst/>
          </a:prstGeom>
          <a:ln w="0">
            <a:noFill/>
          </a:ln>
        </p:spPr>
      </p:pic>
      <p:sp>
        <p:nvSpPr>
          <p:cNvPr id="99" name=""/>
          <p:cNvSpPr/>
          <p:nvPr/>
        </p:nvSpPr>
        <p:spPr>
          <a:xfrm>
            <a:off x="28256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0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between positions of recording sites and receptive fields in dorsal V2. </a:t>
            </a:r>
            <a:endParaRPr b="0" lang="en-US" sz="1600" spc="-1" strike="noStrike">
              <a:solidFill>
                <a:srgbClr val="000000"/>
              </a:solidFill>
              <a:latin typeface="Times New Roman"/>
            </a:endParaRPr>
          </a:p>
        </p:txBody>
      </p:sp>
      <p:pic>
        <p:nvPicPr>
          <p:cNvPr id="102" name="" descr=""/>
          <p:cNvPicPr/>
          <p:nvPr/>
        </p:nvPicPr>
        <p:blipFill>
          <a:blip r:embed="rId1"/>
          <a:stretch/>
        </p:blipFill>
        <p:spPr>
          <a:xfrm>
            <a:off x="5133960" y="6602400"/>
            <a:ext cx="4467240" cy="712800"/>
          </a:xfrm>
          <a:prstGeom prst="rect">
            <a:avLst/>
          </a:prstGeom>
          <a:ln w="0">
            <a:noFill/>
          </a:ln>
        </p:spPr>
      </p:pic>
      <p:pic>
        <p:nvPicPr>
          <p:cNvPr id="103" name="" descr=""/>
          <p:cNvPicPr/>
          <p:nvPr/>
        </p:nvPicPr>
        <p:blipFill>
          <a:blip r:embed="rId2"/>
          <a:stretch/>
        </p:blipFill>
        <p:spPr>
          <a:xfrm>
            <a:off x="3271680" y="1079640"/>
            <a:ext cx="3540240" cy="5394240"/>
          </a:xfrm>
          <a:prstGeom prst="rect">
            <a:avLst/>
          </a:prstGeom>
          <a:ln w="0">
            <a:noFill/>
          </a:ln>
        </p:spPr>
      </p:pic>
      <p:sp>
        <p:nvSpPr>
          <p:cNvPr id="104" name=""/>
          <p:cNvSpPr/>
          <p:nvPr/>
        </p:nvSpPr>
        <p:spPr>
          <a:xfrm>
            <a:off x="327168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0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 sequences of receptive fields and recording sites crossing border between V2 and presumptive dorsomedial visual area (DM) at different mediolateral levels. </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5133960" y="6602400"/>
            <a:ext cx="4467240" cy="712800"/>
          </a:xfrm>
          <a:prstGeom prst="rect">
            <a:avLst/>
          </a:prstGeom>
          <a:ln w="0">
            <a:noFill/>
          </a:ln>
        </p:spPr>
      </p:pic>
      <p:pic>
        <p:nvPicPr>
          <p:cNvPr id="108" name="" descr=""/>
          <p:cNvPicPr/>
          <p:nvPr/>
        </p:nvPicPr>
        <p:blipFill>
          <a:blip r:embed="rId2"/>
          <a:stretch/>
        </p:blipFill>
        <p:spPr>
          <a:xfrm>
            <a:off x="2779560" y="1079640"/>
            <a:ext cx="4526280" cy="5394240"/>
          </a:xfrm>
          <a:prstGeom prst="rect">
            <a:avLst/>
          </a:prstGeom>
          <a:ln w="0">
            <a:noFill/>
          </a:ln>
        </p:spPr>
      </p:pic>
      <p:sp>
        <p:nvSpPr>
          <p:cNvPr id="109" name=""/>
          <p:cNvSpPr/>
          <p:nvPr/>
        </p:nvSpPr>
        <p:spPr>
          <a:xfrm>
            <a:off x="27795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1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relation between positions of recording sites and receptive fields in ventral V2. </a:t>
            </a:r>
            <a:endParaRPr b="0" lang="en-US" sz="1600" spc="-1" strike="noStrike">
              <a:solidFill>
                <a:srgbClr val="000000"/>
              </a:solidFill>
              <a:latin typeface="Times New Roman"/>
            </a:endParaRPr>
          </a:p>
        </p:txBody>
      </p:sp>
      <p:pic>
        <p:nvPicPr>
          <p:cNvPr id="112" name="" descr=""/>
          <p:cNvPicPr/>
          <p:nvPr/>
        </p:nvPicPr>
        <p:blipFill>
          <a:blip r:embed="rId1"/>
          <a:stretch/>
        </p:blipFill>
        <p:spPr>
          <a:xfrm>
            <a:off x="5133960" y="6602400"/>
            <a:ext cx="4467240" cy="712800"/>
          </a:xfrm>
          <a:prstGeom prst="rect">
            <a:avLst/>
          </a:prstGeom>
          <a:ln w="0">
            <a:noFill/>
          </a:ln>
        </p:spPr>
      </p:pic>
      <p:pic>
        <p:nvPicPr>
          <p:cNvPr id="113" name="" descr=""/>
          <p:cNvPicPr/>
          <p:nvPr/>
        </p:nvPicPr>
        <p:blipFill>
          <a:blip r:embed="rId2"/>
          <a:stretch/>
        </p:blipFill>
        <p:spPr>
          <a:xfrm>
            <a:off x="1413000" y="1079640"/>
            <a:ext cx="7257960" cy="5394240"/>
          </a:xfrm>
          <a:prstGeom prst="rect">
            <a:avLst/>
          </a:prstGeom>
          <a:ln w="0">
            <a:noFill/>
          </a:ln>
        </p:spPr>
      </p:pic>
      <p:sp>
        <p:nvSpPr>
          <p:cNvPr id="114" name=""/>
          <p:cNvSpPr/>
          <p:nvPr/>
        </p:nvSpPr>
        <p:spPr>
          <a:xfrm>
            <a:off x="14130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1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eptive field size of V2 neurons (pooled data from 2 animals). </a:t>
            </a:r>
            <a:endParaRPr b="0" lang="en-US" sz="1600" spc="-1" strike="noStrike">
              <a:solidFill>
                <a:srgbClr val="000000"/>
              </a:solidFill>
              <a:latin typeface="Times New Roman"/>
            </a:endParaRPr>
          </a:p>
        </p:txBody>
      </p:sp>
      <p:pic>
        <p:nvPicPr>
          <p:cNvPr id="117" name="" descr=""/>
          <p:cNvPicPr/>
          <p:nvPr/>
        </p:nvPicPr>
        <p:blipFill>
          <a:blip r:embed="rId1"/>
          <a:stretch/>
        </p:blipFill>
        <p:spPr>
          <a:xfrm>
            <a:off x="5133960" y="6602400"/>
            <a:ext cx="4467240" cy="712800"/>
          </a:xfrm>
          <a:prstGeom prst="rect">
            <a:avLst/>
          </a:prstGeom>
          <a:ln w="0">
            <a:noFill/>
          </a:ln>
        </p:spPr>
      </p:pic>
      <p:pic>
        <p:nvPicPr>
          <p:cNvPr id="118" name="" descr=""/>
          <p:cNvPicPr/>
          <p:nvPr/>
        </p:nvPicPr>
        <p:blipFill>
          <a:blip r:embed="rId2"/>
          <a:stretch/>
        </p:blipFill>
        <p:spPr>
          <a:xfrm>
            <a:off x="1641600" y="1079640"/>
            <a:ext cx="6802200" cy="5394240"/>
          </a:xfrm>
          <a:prstGeom prst="rect">
            <a:avLst/>
          </a:prstGeom>
          <a:ln w="0">
            <a:noFill/>
          </a:ln>
        </p:spPr>
      </p:pic>
      <p:sp>
        <p:nvSpPr>
          <p:cNvPr id="119" name=""/>
          <p:cNvSpPr/>
          <p:nvPr/>
        </p:nvSpPr>
        <p:spPr>
          <a:xfrm>
            <a:off x="1641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2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rtical magnification factors in V2, measured between points in cortex located along imaginary lines parallel (▵; thick continuous line) and perpendicular (□; thick dashed line) to V1/V2 border.</a:t>
            </a:r>
            <a:endParaRPr b="0" lang="en-US" sz="1600" spc="-1" strike="noStrike">
              <a:solidFill>
                <a:srgbClr val="000000"/>
              </a:solidFill>
              <a:latin typeface="Times New Roman"/>
            </a:endParaRPr>
          </a:p>
        </p:txBody>
      </p:sp>
      <p:pic>
        <p:nvPicPr>
          <p:cNvPr id="122" name="" descr=""/>
          <p:cNvPicPr/>
          <p:nvPr/>
        </p:nvPicPr>
        <p:blipFill>
          <a:blip r:embed="rId1"/>
          <a:stretch/>
        </p:blipFill>
        <p:spPr>
          <a:xfrm>
            <a:off x="5133960" y="6602400"/>
            <a:ext cx="4467240" cy="712800"/>
          </a:xfrm>
          <a:prstGeom prst="rect">
            <a:avLst/>
          </a:prstGeom>
          <a:ln w="0">
            <a:noFill/>
          </a:ln>
        </p:spPr>
      </p:pic>
      <p:pic>
        <p:nvPicPr>
          <p:cNvPr id="123" name="" descr=""/>
          <p:cNvPicPr/>
          <p:nvPr/>
        </p:nvPicPr>
        <p:blipFill>
          <a:blip r:embed="rId2"/>
          <a:stretch/>
        </p:blipFill>
        <p:spPr>
          <a:xfrm>
            <a:off x="2052720" y="1079640"/>
            <a:ext cx="5981760" cy="5394240"/>
          </a:xfrm>
          <a:prstGeom prst="rect">
            <a:avLst/>
          </a:prstGeom>
          <a:ln w="0">
            <a:noFill/>
          </a:ln>
        </p:spPr>
      </p:pic>
      <p:sp>
        <p:nvSpPr>
          <p:cNvPr id="124" name=""/>
          <p:cNvSpPr/>
          <p:nvPr/>
        </p:nvSpPr>
        <p:spPr>
          <a:xfrm>
            <a:off x="20527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2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eptive fields of neurons recorded in areas surrounding DM in 2 animals. </a:t>
            </a:r>
            <a:endParaRPr b="0" lang="en-US" sz="1600" spc="-1" strike="noStrike">
              <a:solidFill>
                <a:srgbClr val="000000"/>
              </a:solidFill>
              <a:latin typeface="Times New Roman"/>
            </a:endParaRPr>
          </a:p>
        </p:txBody>
      </p:sp>
      <p:pic>
        <p:nvPicPr>
          <p:cNvPr id="127" name="" descr=""/>
          <p:cNvPicPr/>
          <p:nvPr/>
        </p:nvPicPr>
        <p:blipFill>
          <a:blip r:embed="rId1"/>
          <a:stretch/>
        </p:blipFill>
        <p:spPr>
          <a:xfrm>
            <a:off x="5133960" y="6602400"/>
            <a:ext cx="4467240" cy="712800"/>
          </a:xfrm>
          <a:prstGeom prst="rect">
            <a:avLst/>
          </a:prstGeom>
          <a:ln w="0">
            <a:noFill/>
          </a:ln>
        </p:spPr>
      </p:pic>
      <p:pic>
        <p:nvPicPr>
          <p:cNvPr id="128" name="" descr=""/>
          <p:cNvPicPr/>
          <p:nvPr/>
        </p:nvPicPr>
        <p:blipFill>
          <a:blip r:embed="rId2"/>
          <a:stretch/>
        </p:blipFill>
        <p:spPr>
          <a:xfrm>
            <a:off x="3571920" y="1079640"/>
            <a:ext cx="2943360" cy="5394240"/>
          </a:xfrm>
          <a:prstGeom prst="rect">
            <a:avLst/>
          </a:prstGeom>
          <a:ln w="0">
            <a:noFill/>
          </a:ln>
        </p:spPr>
      </p:pic>
      <p:sp>
        <p:nvSpPr>
          <p:cNvPr id="129" name=""/>
          <p:cNvSpPr/>
          <p:nvPr/>
        </p:nvSpPr>
        <p:spPr>
          <a:xfrm>
            <a:off x="35719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3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opographic relationships of V1, V2, and prostriata in a hypothetical nonprimate, Galago, and a hypothetical simian primate.</a:t>
            </a:r>
            <a:endParaRPr b="0" lang="en-US" sz="1600" spc="-1" strike="noStrike">
              <a:solidFill>
                <a:srgbClr val="000000"/>
              </a:solidFill>
              <a:latin typeface="Times New Roman"/>
            </a:endParaRPr>
          </a:p>
        </p:txBody>
      </p:sp>
      <p:pic>
        <p:nvPicPr>
          <p:cNvPr id="132" name="" descr=""/>
          <p:cNvPicPr/>
          <p:nvPr/>
        </p:nvPicPr>
        <p:blipFill>
          <a:blip r:embed="rId1"/>
          <a:stretch/>
        </p:blipFill>
        <p:spPr>
          <a:xfrm>
            <a:off x="5133960" y="6602400"/>
            <a:ext cx="4467240" cy="712800"/>
          </a:xfrm>
          <a:prstGeom prst="rect">
            <a:avLst/>
          </a:prstGeom>
          <a:ln w="0">
            <a:noFill/>
          </a:ln>
        </p:spPr>
      </p:pic>
      <p:pic>
        <p:nvPicPr>
          <p:cNvPr id="133" name="" descr=""/>
          <p:cNvPicPr/>
          <p:nvPr/>
        </p:nvPicPr>
        <p:blipFill>
          <a:blip r:embed="rId2"/>
          <a:stretch/>
        </p:blipFill>
        <p:spPr>
          <a:xfrm>
            <a:off x="739800" y="2392200"/>
            <a:ext cx="8604360" cy="2767320"/>
          </a:xfrm>
          <a:prstGeom prst="rect">
            <a:avLst/>
          </a:prstGeom>
          <a:ln w="0">
            <a:noFill/>
          </a:ln>
        </p:spPr>
      </p:pic>
      <p:sp>
        <p:nvSpPr>
          <p:cNvPr id="134" name=""/>
          <p:cNvSpPr/>
          <p:nvPr/>
        </p:nvSpPr>
        <p:spPr>
          <a:xfrm>
            <a:off x="7398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13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visuotopic organization and extent of V1 in Galago garnetti.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549600" y="1079640"/>
            <a:ext cx="2987640" cy="5394240"/>
          </a:xfrm>
          <a:prstGeom prst="rect">
            <a:avLst/>
          </a:prstGeom>
          <a:ln w="0">
            <a:noFill/>
          </a:ln>
        </p:spPr>
      </p:pic>
      <p:sp>
        <p:nvSpPr>
          <p:cNvPr id="49" name=""/>
          <p:cNvSpPr/>
          <p:nvPr/>
        </p:nvSpPr>
        <p:spPr>
          <a:xfrm>
            <a:off x="3549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ytochrome oxidase patterns of the 1st and 2nd visual areas (V1 and V2, respectively) and prostriata, illustrated in parasagittal sections observed through a Zeiss Axiophot microscope equipped with a digital video capture system (Seescan LC100M).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3657600" y="1079640"/>
            <a:ext cx="2768760" cy="5394240"/>
          </a:xfrm>
          <a:prstGeom prst="rect">
            <a:avLst/>
          </a:prstGeom>
          <a:ln w="0">
            <a:noFill/>
          </a:ln>
        </p:spPr>
      </p:pic>
      <p:sp>
        <p:nvSpPr>
          <p:cNvPr id="54" name=""/>
          <p:cNvSpPr/>
          <p:nvPr/>
        </p:nvSpPr>
        <p:spPr>
          <a:xfrm>
            <a:off x="365760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igital video frames illustrating myelin patterns and transitions between V1, V2, and visually responsive ventral cortex rostral to V2 (V?).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5133960" y="6602400"/>
            <a:ext cx="4467240" cy="712800"/>
          </a:xfrm>
          <a:prstGeom prst="rect">
            <a:avLst/>
          </a:prstGeom>
          <a:ln w="0">
            <a:noFill/>
          </a:ln>
        </p:spPr>
      </p:pic>
      <p:pic>
        <p:nvPicPr>
          <p:cNvPr id="58" name="" descr=""/>
          <p:cNvPicPr/>
          <p:nvPr/>
        </p:nvPicPr>
        <p:blipFill>
          <a:blip r:embed="rId2"/>
          <a:stretch/>
        </p:blipFill>
        <p:spPr>
          <a:xfrm>
            <a:off x="3841920" y="1079640"/>
            <a:ext cx="2400120" cy="5394240"/>
          </a:xfrm>
          <a:prstGeom prst="rect">
            <a:avLst/>
          </a:prstGeom>
          <a:ln w="0">
            <a:noFill/>
          </a:ln>
        </p:spPr>
      </p:pic>
      <p:sp>
        <p:nvSpPr>
          <p:cNvPr id="59" name=""/>
          <p:cNvSpPr/>
          <p:nvPr/>
        </p:nvSpPr>
        <p:spPr>
          <a:xfrm>
            <a:off x="384192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5133960" y="6602400"/>
            <a:ext cx="4467240" cy="712800"/>
          </a:xfrm>
          <a:prstGeom prst="rect">
            <a:avLst/>
          </a:prstGeom>
          <a:ln w="0">
            <a:noFill/>
          </a:ln>
        </p:spPr>
      </p:pic>
      <p:pic>
        <p:nvPicPr>
          <p:cNvPr id="63" name="" descr=""/>
          <p:cNvPicPr/>
          <p:nvPr/>
        </p:nvPicPr>
        <p:blipFill>
          <a:blip r:embed="rId2"/>
          <a:stretch/>
        </p:blipFill>
        <p:spPr>
          <a:xfrm>
            <a:off x="3297240" y="1079640"/>
            <a:ext cx="3490920" cy="5394240"/>
          </a:xfrm>
          <a:prstGeom prst="rect">
            <a:avLst/>
          </a:prstGeom>
          <a:ln w="0">
            <a:noFill/>
          </a:ln>
        </p:spPr>
      </p:pic>
      <p:sp>
        <p:nvSpPr>
          <p:cNvPr id="64" name=""/>
          <p:cNvSpPr/>
          <p:nvPr/>
        </p:nvSpPr>
        <p:spPr>
          <a:xfrm>
            <a:off x="3297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5133960" y="6602400"/>
            <a:ext cx="4467240" cy="712800"/>
          </a:xfrm>
          <a:prstGeom prst="rect">
            <a:avLst/>
          </a:prstGeom>
          <a:ln w="0">
            <a:noFill/>
          </a:ln>
        </p:spPr>
      </p:pic>
      <p:pic>
        <p:nvPicPr>
          <p:cNvPr id="68" name="" descr=""/>
          <p:cNvPicPr/>
          <p:nvPr/>
        </p:nvPicPr>
        <p:blipFill>
          <a:blip r:embed="rId2"/>
          <a:stretch/>
        </p:blipFill>
        <p:spPr>
          <a:xfrm>
            <a:off x="3317760" y="1079640"/>
            <a:ext cx="3449880" cy="5394240"/>
          </a:xfrm>
          <a:prstGeom prst="rect">
            <a:avLst/>
          </a:prstGeom>
          <a:ln w="0">
            <a:noFill/>
          </a:ln>
        </p:spPr>
      </p:pic>
      <p:sp>
        <p:nvSpPr>
          <p:cNvPr id="69" name=""/>
          <p:cNvSpPr/>
          <p:nvPr/>
        </p:nvSpPr>
        <p:spPr>
          <a:xfrm>
            <a:off x="33177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onstruction of visuotopy of V1 in “flat” representations of cortical surfac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5133960" y="6602400"/>
            <a:ext cx="4467240" cy="712800"/>
          </a:xfrm>
          <a:prstGeom prst="rect">
            <a:avLst/>
          </a:prstGeom>
          <a:ln w="0">
            <a:noFill/>
          </a:ln>
        </p:spPr>
      </p:pic>
      <p:pic>
        <p:nvPicPr>
          <p:cNvPr id="73" name="" descr=""/>
          <p:cNvPicPr/>
          <p:nvPr/>
        </p:nvPicPr>
        <p:blipFill>
          <a:blip r:embed="rId2"/>
          <a:stretch/>
        </p:blipFill>
        <p:spPr>
          <a:xfrm>
            <a:off x="3884760" y="1079640"/>
            <a:ext cx="2315880" cy="5394240"/>
          </a:xfrm>
          <a:prstGeom prst="rect">
            <a:avLst/>
          </a:prstGeom>
          <a:ln w="0">
            <a:noFill/>
          </a:ln>
        </p:spPr>
      </p:pic>
      <p:sp>
        <p:nvSpPr>
          <p:cNvPr id="74" name=""/>
          <p:cNvSpPr/>
          <p:nvPr/>
        </p:nvSpPr>
        <p:spPr>
          <a:xfrm>
            <a:off x="388476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visuotopic maps of V1 in Galago.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5133960" y="6602400"/>
            <a:ext cx="4467240" cy="712800"/>
          </a:xfrm>
          <a:prstGeom prst="rect">
            <a:avLst/>
          </a:prstGeom>
          <a:ln w="0">
            <a:noFill/>
          </a:ln>
        </p:spPr>
      </p:pic>
      <p:pic>
        <p:nvPicPr>
          <p:cNvPr id="78" name="" descr=""/>
          <p:cNvPicPr/>
          <p:nvPr/>
        </p:nvPicPr>
        <p:blipFill>
          <a:blip r:embed="rId2"/>
          <a:stretch/>
        </p:blipFill>
        <p:spPr>
          <a:xfrm>
            <a:off x="3894120" y="1079640"/>
            <a:ext cx="2295720" cy="5394240"/>
          </a:xfrm>
          <a:prstGeom prst="rect">
            <a:avLst/>
          </a:prstGeom>
          <a:ln w="0">
            <a:noFill/>
          </a:ln>
        </p:spPr>
      </p:pic>
      <p:sp>
        <p:nvSpPr>
          <p:cNvPr id="79" name=""/>
          <p:cNvSpPr/>
          <p:nvPr/>
        </p:nvSpPr>
        <p:spPr>
          <a:xfrm>
            <a:off x="389412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ceptive field size (square root of receptive field area) of V1 neurons as a function of eccentricity in 1 animal (Piglet).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5133960" y="6602400"/>
            <a:ext cx="4467240" cy="712800"/>
          </a:xfrm>
          <a:prstGeom prst="rect">
            <a:avLst/>
          </a:prstGeom>
          <a:ln w="0">
            <a:noFill/>
          </a:ln>
        </p:spPr>
      </p:pic>
      <p:pic>
        <p:nvPicPr>
          <p:cNvPr id="83" name="" descr=""/>
          <p:cNvPicPr/>
          <p:nvPr/>
        </p:nvPicPr>
        <p:blipFill>
          <a:blip r:embed="rId2"/>
          <a:stretch/>
        </p:blipFill>
        <p:spPr>
          <a:xfrm>
            <a:off x="2081160" y="1079640"/>
            <a:ext cx="5924520" cy="5394240"/>
          </a:xfrm>
          <a:prstGeom prst="rect">
            <a:avLst/>
          </a:prstGeom>
          <a:ln w="0">
            <a:noFill/>
          </a:ln>
        </p:spPr>
      </p:pic>
      <p:sp>
        <p:nvSpPr>
          <p:cNvPr id="84" name=""/>
          <p:cNvSpPr/>
          <p:nvPr/>
        </p:nvSpPr>
        <p:spPr>
          <a:xfrm>
            <a:off x="208116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Marcello G. P. Rosa et al. J Neurophysiol 1997;77:3193-3217</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1997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