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0"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3-dimensional representation in which elbow (top) and shoulder (bottom) impulses are plotted as functions of the net angular rotation of shoulder and forearm (Δθs, Δθe). Least-squares fits (Eq. 4) show that impulse is well described as a linear combination of joint angles. As a consequence of this, the data for each joint are nearly planar. Numbers in the joint angle plane indicate the direction of movement. Subject (T) is the same as in Fig. 8.</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lope K d of the linear relationship between shoulder and elbow torque (Eq. 1 ) varies systematically with movement direction by subject S. It is a tangent-like relationship but is highly asymmetric because although CO movement directional vectors were spaced evenly, only 3 of the corresponding torque vectors have negative slopes. One point at 2 o'clock is off scale (K d = 87.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comparison of 2 methods of estimating K d for CO movements and for experiments previously published. Impulse is computed directly by integration of the torques (Eq. 2) and by the MLR model (Eq. 6, subject T). •, 9 CO movement directions. Numbers denote movement direction. →, locations of 3 data points that are off scale. The 2 and 3 o'clock points are close to the solid line of unity slope. At 8 o'clock, integration for this subject gave an very small estimate for elbow impulse and the impulse ratio is significantly larger than the regression ratio. Other symbols show results from 9 other subjects performing various movements that were described in Almeida et al. (1995), x, elbow flexions of different distances; +, shoulder flexions of different distances (Gottlieb et al. 1996a); ○, different loads with flexion of both joints; □, different loads with elbow extension and shoulder flex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center-out movements: subjects moved from an initial location out in front of the shoulder to a series of 12 targets, located at the hours of a clock and 20 cm from its center. Parasagittal target plane was aligned with the arm. Heavy lines show the arm segments at the initial position when the subject prepared to move. Thin lines show average finger paths to the 12 targets by subject T. Markers are drawn at 50-ms intervals. Angle variables for Eq. 2 are defined here. B: center-crossing (CX) movements: subjects started from different initial locations, elliptically arranged around a center near shoulder height. They moved to targets located at the opposite side of the ellipse. Six of the 12 movements directions are illustrated, the end points of the movements are identified by the numbers. Other 6 movements were made in the opposite directions. Heavy lines show the arm segments at the initial position of the 1 o'clock movement. Thin lines are the finger paths of individual mov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6"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bow and shoulder torques, computed by Eq. 2 that correspond to the movements illustrated in Fig. 2 A by subject T. These torques include the contribution of gravity. They have been offset vertically from their initial values of τs = –7 Nm, τe = −2.3 Nm. Torque scales for the elbow are 1 Nm/division and for the shoulder 3.6 Nm/division. Time axis divisions are 100 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elbow (——) and shoulder (– – –) torque are plotted for center-out movements in 12 directions by subject S. Torque at each joint has been averaged over 10 movements, the gravitational component removed, and then normalized to the first peak into acceleration. Time has been normalized to the first zero crossing of the shoulder torque. Numbers on the left indicate the direction of movement in terms of hours of the clock. Except at 2 and 8 o'clock, the torques at the 2 joints are very similar in shape. At 2 and 8 o'clock, elbow torque was at a local minimum. B: elbow and shoulder torque are plotted for individual perimeter movements in 12 directions. Torques have been normalized only with respect to the first peak so that the differences in movement time can be seen. Time axis is 0.8 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2"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of linear merit [ΦLM (Eq. 3 )] between elbow and shoulder dynamic torques is plotted as a function of movement direction. Subject S is denoted by the rectangular symbols. The heavy line shows the mean of all 6 subjects who performed the CO movements of the first experiment. ⋄, figure of merit for 1 subject's individual CX mov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rectional Control of Planar Human Arm Movemen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erald L. Gottlieb, Qilai Song, Gil L. Almeida, Di-An Hong, and Daniel Corco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78(6):2985-299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1992240" y="1079640"/>
            <a:ext cx="6099120" cy="5394240"/>
          </a:xfrm>
          <a:prstGeom prst="rect">
            <a:avLst/>
          </a:prstGeom>
          <a:ln w="0">
            <a:noFill/>
          </a:ln>
        </p:spPr>
      </p:pic>
      <p:sp>
        <p:nvSpPr>
          <p:cNvPr id="89" name=""/>
          <p:cNvSpPr/>
          <p:nvPr/>
        </p:nvSpPr>
        <p:spPr>
          <a:xfrm>
            <a:off x="1992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1949400" y="1079640"/>
            <a:ext cx="6184800" cy="5394240"/>
          </a:xfrm>
          <a:prstGeom prst="rect">
            <a:avLst/>
          </a:prstGeom>
          <a:ln w="0">
            <a:noFill/>
          </a:ln>
        </p:spPr>
      </p:pic>
      <p:sp>
        <p:nvSpPr>
          <p:cNvPr id="94" name=""/>
          <p:cNvSpPr/>
          <p:nvPr/>
        </p:nvSpPr>
        <p:spPr>
          <a:xfrm>
            <a:off x="1949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5133960" y="6602400"/>
            <a:ext cx="4467240" cy="712800"/>
          </a:xfrm>
          <a:prstGeom prst="rect">
            <a:avLst/>
          </a:prstGeom>
          <a:ln w="0">
            <a:noFill/>
          </a:ln>
        </p:spPr>
      </p:pic>
      <p:pic>
        <p:nvPicPr>
          <p:cNvPr id="98" name="" descr=""/>
          <p:cNvPicPr/>
          <p:nvPr/>
        </p:nvPicPr>
        <p:blipFill>
          <a:blip r:embed="rId2"/>
          <a:stretch/>
        </p:blipFill>
        <p:spPr>
          <a:xfrm>
            <a:off x="1009800" y="1079640"/>
            <a:ext cx="8065800" cy="5394240"/>
          </a:xfrm>
          <a:prstGeom prst="rect">
            <a:avLst/>
          </a:prstGeom>
          <a:ln w="0">
            <a:noFill/>
          </a:ln>
        </p:spPr>
      </p:pic>
      <p:sp>
        <p:nvSpPr>
          <p:cNvPr id="99" name=""/>
          <p:cNvSpPr/>
          <p:nvPr/>
        </p:nvSpPr>
        <p:spPr>
          <a:xfrm>
            <a:off x="10098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5133960" y="6602400"/>
            <a:ext cx="4467240" cy="712800"/>
          </a:xfrm>
          <a:prstGeom prst="rect">
            <a:avLst/>
          </a:prstGeom>
          <a:ln w="0">
            <a:noFill/>
          </a:ln>
        </p:spPr>
      </p:pic>
      <p:pic>
        <p:nvPicPr>
          <p:cNvPr id="103" name="" descr=""/>
          <p:cNvPicPr/>
          <p:nvPr/>
        </p:nvPicPr>
        <p:blipFill>
          <a:blip r:embed="rId2"/>
          <a:stretch/>
        </p:blipFill>
        <p:spPr>
          <a:xfrm>
            <a:off x="1414440" y="1079640"/>
            <a:ext cx="7257960" cy="5394240"/>
          </a:xfrm>
          <a:prstGeom prst="rect">
            <a:avLst/>
          </a:prstGeom>
          <a:ln w="0">
            <a:noFill/>
          </a:ln>
        </p:spPr>
      </p:pic>
      <p:sp>
        <p:nvSpPr>
          <p:cNvPr id="104" name=""/>
          <p:cNvSpPr/>
          <p:nvPr/>
        </p:nvSpPr>
        <p:spPr>
          <a:xfrm>
            <a:off x="1414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3-dimensional representation in which elbow (top) and shoulder (bottom) impulses are plotted as functions of the net angular rotation of shoulder and forearm (Δθs, Δθe). </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5133960" y="6602400"/>
            <a:ext cx="4467240" cy="712800"/>
          </a:xfrm>
          <a:prstGeom prst="rect">
            <a:avLst/>
          </a:prstGeom>
          <a:ln w="0">
            <a:noFill/>
          </a:ln>
        </p:spPr>
      </p:pic>
      <p:pic>
        <p:nvPicPr>
          <p:cNvPr id="108" name="" descr=""/>
          <p:cNvPicPr/>
          <p:nvPr/>
        </p:nvPicPr>
        <p:blipFill>
          <a:blip r:embed="rId2"/>
          <a:stretch/>
        </p:blipFill>
        <p:spPr>
          <a:xfrm>
            <a:off x="3392640" y="1079640"/>
            <a:ext cx="3300120" cy="5394240"/>
          </a:xfrm>
          <a:prstGeom prst="rect">
            <a:avLst/>
          </a:prstGeom>
          <a:ln w="0">
            <a:noFill/>
          </a:ln>
        </p:spPr>
      </p:pic>
      <p:sp>
        <p:nvSpPr>
          <p:cNvPr id="109" name=""/>
          <p:cNvSpPr/>
          <p:nvPr/>
        </p:nvSpPr>
        <p:spPr>
          <a:xfrm>
            <a:off x="33926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11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lope K d of the linear relationship between shoulder and elbow torque (Eq. 1 ) varies systematically with movement direction by subject S. It is a tangent-like relationship but is highly asymmetric because although CO movement directional vectors were spac...</a:t>
            </a:r>
            <a:endParaRPr b="0" lang="en-US" sz="1600" spc="-1" strike="noStrike">
              <a:solidFill>
                <a:srgbClr val="000000"/>
              </a:solidFill>
              <a:latin typeface="Times New Roman"/>
            </a:endParaRPr>
          </a:p>
        </p:txBody>
      </p:sp>
      <p:pic>
        <p:nvPicPr>
          <p:cNvPr id="112" name="" descr=""/>
          <p:cNvPicPr/>
          <p:nvPr/>
        </p:nvPicPr>
        <p:blipFill>
          <a:blip r:embed="rId1"/>
          <a:stretch/>
        </p:blipFill>
        <p:spPr>
          <a:xfrm>
            <a:off x="5133960" y="6602400"/>
            <a:ext cx="4467240" cy="712800"/>
          </a:xfrm>
          <a:prstGeom prst="rect">
            <a:avLst/>
          </a:prstGeom>
          <a:ln w="0">
            <a:noFill/>
          </a:ln>
        </p:spPr>
      </p:pic>
      <p:pic>
        <p:nvPicPr>
          <p:cNvPr id="113" name="" descr=""/>
          <p:cNvPicPr/>
          <p:nvPr/>
        </p:nvPicPr>
        <p:blipFill>
          <a:blip r:embed="rId2"/>
          <a:stretch/>
        </p:blipFill>
        <p:spPr>
          <a:xfrm>
            <a:off x="1266840" y="1079640"/>
            <a:ext cx="7551720" cy="5394240"/>
          </a:xfrm>
          <a:prstGeom prst="rect">
            <a:avLst/>
          </a:prstGeom>
          <a:ln w="0">
            <a:noFill/>
          </a:ln>
        </p:spPr>
      </p:pic>
      <p:sp>
        <p:nvSpPr>
          <p:cNvPr id="114" name=""/>
          <p:cNvSpPr/>
          <p:nvPr/>
        </p:nvSpPr>
        <p:spPr>
          <a:xfrm>
            <a:off x="1266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11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comparison of 2 methods of estimating K d for CO movements and for experiments previously published. </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5133960" y="6602400"/>
            <a:ext cx="4467240" cy="712800"/>
          </a:xfrm>
          <a:prstGeom prst="rect">
            <a:avLst/>
          </a:prstGeom>
          <a:ln w="0">
            <a:noFill/>
          </a:ln>
        </p:spPr>
      </p:pic>
      <p:pic>
        <p:nvPicPr>
          <p:cNvPr id="118" name="" descr=""/>
          <p:cNvPicPr/>
          <p:nvPr/>
        </p:nvPicPr>
        <p:blipFill>
          <a:blip r:embed="rId2"/>
          <a:stretch/>
        </p:blipFill>
        <p:spPr>
          <a:xfrm>
            <a:off x="1522440" y="1079640"/>
            <a:ext cx="7041960" cy="5394240"/>
          </a:xfrm>
          <a:prstGeom prst="rect">
            <a:avLst/>
          </a:prstGeom>
          <a:ln w="0">
            <a:noFill/>
          </a:ln>
        </p:spPr>
      </p:pic>
      <p:sp>
        <p:nvSpPr>
          <p:cNvPr id="119" name=""/>
          <p:cNvSpPr/>
          <p:nvPr/>
        </p:nvSpPr>
        <p:spPr>
          <a:xfrm>
            <a:off x="1522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12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center-out movements: subjects moved from an initial location out in front of the shoulder to a series of 12 targets, located at the hours of a clock and 20 cm from its cente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065240" y="1079640"/>
            <a:ext cx="7953480" cy="5394240"/>
          </a:xfrm>
          <a:prstGeom prst="rect">
            <a:avLst/>
          </a:prstGeom>
          <a:ln w="0">
            <a:noFill/>
          </a:ln>
        </p:spPr>
      </p:pic>
      <p:sp>
        <p:nvSpPr>
          <p:cNvPr id="49" name=""/>
          <p:cNvSpPr/>
          <p:nvPr/>
        </p:nvSpPr>
        <p:spPr>
          <a:xfrm>
            <a:off x="1065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166920" y="1079640"/>
            <a:ext cx="3753000" cy="5394240"/>
          </a:xfrm>
          <a:prstGeom prst="rect">
            <a:avLst/>
          </a:prstGeom>
          <a:ln w="0">
            <a:noFill/>
          </a:ln>
        </p:spPr>
      </p:pic>
      <p:sp>
        <p:nvSpPr>
          <p:cNvPr id="54" name=""/>
          <p:cNvSpPr/>
          <p:nvPr/>
        </p:nvSpPr>
        <p:spPr>
          <a:xfrm>
            <a:off x="3166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455920" y="1079640"/>
            <a:ext cx="5173560" cy="5394240"/>
          </a:xfrm>
          <a:prstGeom prst="rect">
            <a:avLst/>
          </a:prstGeom>
          <a:ln w="0">
            <a:noFill/>
          </a:ln>
        </p:spPr>
      </p:pic>
      <p:sp>
        <p:nvSpPr>
          <p:cNvPr id="59" name=""/>
          <p:cNvSpPr/>
          <p:nvPr/>
        </p:nvSpPr>
        <p:spPr>
          <a:xfrm>
            <a:off x="2455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bow and shoulder torques, computed by Eq. 2 that correspond to the movements illustrated in Fig. 2 A by subject T. These torques include the contribution of grav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3059280" y="1079640"/>
            <a:ext cx="3968640" cy="5394240"/>
          </a:xfrm>
          <a:prstGeom prst="rect">
            <a:avLst/>
          </a:prstGeom>
          <a:ln w="0">
            <a:noFill/>
          </a:ln>
        </p:spPr>
      </p:pic>
      <p:sp>
        <p:nvSpPr>
          <p:cNvPr id="64" name=""/>
          <p:cNvSpPr/>
          <p:nvPr/>
        </p:nvSpPr>
        <p:spPr>
          <a:xfrm>
            <a:off x="30592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elbow (——) and shoulder (– – –) torque are plotted for center-out movements in 12 directions by subject S. Torque at each joint has been averaged over 10 movements, the gravitational component removed, and then normalized to the first peak into accelerat...</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133720" y="1079640"/>
            <a:ext cx="5817960" cy="5394240"/>
          </a:xfrm>
          <a:prstGeom prst="rect">
            <a:avLst/>
          </a:prstGeom>
          <a:ln w="0">
            <a:noFill/>
          </a:ln>
        </p:spPr>
      </p:pic>
      <p:sp>
        <p:nvSpPr>
          <p:cNvPr id="69" name=""/>
          <p:cNvSpPr/>
          <p:nvPr/>
        </p:nvSpPr>
        <p:spPr>
          <a:xfrm>
            <a:off x="2133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006640" y="1079640"/>
            <a:ext cx="6073560" cy="5394240"/>
          </a:xfrm>
          <a:prstGeom prst="rect">
            <a:avLst/>
          </a:prstGeom>
          <a:ln w="0">
            <a:noFill/>
          </a:ln>
        </p:spPr>
      </p:pic>
      <p:sp>
        <p:nvSpPr>
          <p:cNvPr id="74" name=""/>
          <p:cNvSpPr/>
          <p:nvPr/>
        </p:nvSpPr>
        <p:spPr>
          <a:xfrm>
            <a:off x="2006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2063880" y="1079640"/>
            <a:ext cx="5957640" cy="5394240"/>
          </a:xfrm>
          <a:prstGeom prst="rect">
            <a:avLst/>
          </a:prstGeom>
          <a:ln w="0">
            <a:noFill/>
          </a:ln>
        </p:spPr>
      </p:pic>
      <p:sp>
        <p:nvSpPr>
          <p:cNvPr id="79" name=""/>
          <p:cNvSpPr/>
          <p:nvPr/>
        </p:nvSpPr>
        <p:spPr>
          <a:xfrm>
            <a:off x="20638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ure of linear merit [ΦLM (Eq. 3 )] between elbow and shoulder dynamic torques is plotted as a function of movement direction.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1863720" y="1079640"/>
            <a:ext cx="6359400" cy="5394240"/>
          </a:xfrm>
          <a:prstGeom prst="rect">
            <a:avLst/>
          </a:prstGeom>
          <a:ln w="0">
            <a:noFill/>
          </a:ln>
        </p:spPr>
      </p:pic>
      <p:sp>
        <p:nvSpPr>
          <p:cNvPr id="84" name=""/>
          <p:cNvSpPr/>
          <p:nvPr/>
        </p:nvSpPr>
        <p:spPr>
          <a:xfrm>
            <a:off x="1863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rald L. Gottlieb et al. J Neurophysiol 1997;78:2985-299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