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solation of the perforant path projection to CA3. A: scheme of a hippocampal slice preparation showing stimulation (STIM) and recording (REC) sites and placement of cut. Recordings were made from CA3 pyramidal cells located in CA3b and CA3c subfields. Extracellular electrode in the CSD study was moved in the direction perpendicular to the cell bodies layer (green line). B: Current source density profile within CA3 indicates selective activation of perforant path synapses. Current source density analysis was calculated from field potentials recorded in CA3 after stimulation of the perforant path as described in methods. Contour plots show that the main current sink is located in stratum lacunosum moleculare with very little activation elsewhere on the dendritic tree of CA3 pyramidal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V relations for perforant path–evoked responses. A: excitatory postsynaptic currents (EPSCs) measured at various holding potentials (CsF+picrotoxin in the whole cell recordings pipette). B: plot of EPSC peak amplitude (at 15 ms from the stimulation artifact) vs. holding potential. C: perforant path–evoked responses recorded with a pipette containing K-gluconate had 3 components: early (peak at 6 ms, reversal at −20 mV), intermediate (peak at 20 ms, reversal at −43 mV), and late (peak at 130 ms, reversal at −100 mV). D: I-V plot for the late and the intermediate compon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harmacological isolation of excitatory components of the perforant path–evoked EPSC. A: control recordings ([Mg2+] = 3 mM, holding potential, −60 mV) and N-methyl-d-aspartate receptor (NMDAR)-mediated component of EPSC isolated in the presence of 6-cyano-7-nitroquinoxaline-2,3-dione (CNQX; 10 mM) (holding potential, −60 mV, [Mg2+] = 1.25 mM, stimulation intensity increased by 50%). B: α-amino-3-hydroxy-5-methyl-4-isoxazolepropionic acid receptor (AMPAR)-mediated component of EPSC isolated by blocking NMDAR-mediated component with 2-amino-5-phosphovalerate (APV; 25 mM). NMDAR-mediated component calculated by subtracting AMPAR-mediated component from the control response (control-APV) [holding potential, −80 mV, ([Mg2+] = 3 mM)]. C: Proportion of EPSC mediated by NMDARs, calculated as the ratio of the peak amplitude of the NMDAR-mediated EPSC to the peak amplitude of the control EPSC in experiments with APV application as a function of holding potential ([Mg2+] = 3 mM, mean ± SE, n = 6 for each holding potential except for −100 mV where n = 3). In all experiments, the pipette solution contained CsF + picrotox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forant path–evoked inhibitory responses. Mixed EPSC with γ-aminobutyric acid-A GABAA-mediated inhibitory postsynaptic current (IPSC; control), and isolated EPSC after suppression of IPSC with bicuculline at −10 mV (A) and −50 mV (B) (pipette solution contained Cs-gluconate). C: perforant path–evoked response recorded in current-clamp using pipette containing K-gluconate. Long-lasting inhibitory component was suppressed by addition of CGP 35348 (500 m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wo types of perforant path responses. A: responses of the 1st type demonstrated paired-pulse depression in control conditions (PPD responses). Addition of baclofen suppressed PPD responses by 65%. B: responses of the 2nd type demonstrated paired-pulse facilitation (PPF responses). Addition of AP4 suppressed responses by 50%. C: summary of baclofen and AP4 action on PPD and PPF responses. Suppression of the response was determined from a ratio of the amplitude of the 1st EPSC in the pair recorded in a presence of drug (either AP4 or baclofen) to the EPSC amplitude recorded under control conditions (mean ± SE, for PPF/AP4 experiments, n = 8; for other experiments, n = 4). In all experiments, the pipette solution contained CsF + picrotox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lectrophysiological and Pharmacological Characterization of the Direct Perforant Path Input to Hippocampal Area CA3</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ulia Berzhanskaya, Nathaniel N. Urban, and German Barrionuev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79(4):2111-211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 199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solation of the perforant path projection to CA3.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739800" y="2049480"/>
            <a:ext cx="8604360" cy="345456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lia Berzhanskaya et al. J Neurophysiol 1998;79:2111-211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V relations for perforant path–evoked respons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2476440" y="1079640"/>
            <a:ext cx="5130720" cy="5394240"/>
          </a:xfrm>
          <a:prstGeom prst="rect">
            <a:avLst/>
          </a:prstGeom>
          <a:ln w="0">
            <a:noFill/>
          </a:ln>
        </p:spPr>
      </p:pic>
      <p:sp>
        <p:nvSpPr>
          <p:cNvPr id="54" name=""/>
          <p:cNvSpPr/>
          <p:nvPr/>
        </p:nvSpPr>
        <p:spPr>
          <a:xfrm>
            <a:off x="2476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lia Berzhanskaya et al. J Neurophysiol 1998;79:2111-211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harmacological isolation of excitatory components of the perforant path–evoked EPSC. A: control recordings ([Mg2+] = 3 mM, holding potential, −60 mV) and N-methyl-d-aspartate receptor (NMDAR)-mediated component of EPSC isolated in the presence of 6-cyano-7...</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739800" y="2014560"/>
            <a:ext cx="8604360" cy="352260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lia Berzhanskaya et al. J Neurophysiol 1998;79:2111-211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forant path–evoked inhibitory respons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739800" y="2154240"/>
            <a:ext cx="8604360" cy="324468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lia Berzhanskaya et al. J Neurophysiol 1998;79:2111-211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wo types of perforant path respons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739800" y="1274760"/>
            <a:ext cx="8604360" cy="500544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ulia Berzhanskaya et al. J Neurophysiol 1998;79:2111-211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