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lockade of postsynaptic calcium channels reduces perforant-path evoked excitatory postsynaptic potentials (EPSPs). A: NiCl2 reduces the peak amplitude of the perforant-path evoked response (n = 14). B: input-output curve showing that the effect of NiCl2 was greater for larger responses, which would be more effective in recruiting voltage-dependent channels. Effect of NiCl2 was significant for large but not small stimulation intensities. C: example EPSPs from 3 cells before and after the addition of NiCl2. Note that the peak of the NiCl2 sensitive (Difference) component occurs after the peak of the control EPSP. D and E: 30 μM NiCl2 had no effect on perforant-path excitatory postsynaptic currents, demonstrating that the effect of nickel was postsynaptic and voltage depe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lockade of postsynaptic sodium channels reduces perforant-path EPSPs. A: schematic showing the positions of whole cell pipette (WC), tetrodotoxin (TTX) containing pipettes, stimulating electrodes used for synaptic stimulation (Syn), or direct depolarization (DD). B: bath application of TTX (200 nM) reduces the amplitude of the EPSP-like responses elicited by direct stimulation of CA3 pyramidal cell distal dendrites. Input-output curve shows that the effect of bath-applied TTX is specific to larger amplitude responses. C: somatically applied TTX (500 nM) reduces the amplitude of EPSPs evoked by perforant-path stim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plification of Perforant-Path EPSPs in CA3 Pyramidal Cells by LVA Calcium and Sodium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Nathaniel N. Urban, Darrell A. Henze, and German Barrionue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JP - JN Physi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80(3):1558-15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ptember 1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8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lockade of postsynaptic calcium channels reduces perforant-path evoked excitatory postsynaptic potentials (EPSPs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7560" y="1079640"/>
            <a:ext cx="611172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75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haniel N. Urban et al. J Neurophysiol 1998;80:1558-15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8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lockade of postsynaptic sodium channels reduces perforant-path EPSPs. A: schematic showing the positions of whole cell pipette (WC), tetrodotoxin (TTX) containing pipettes, stimulating electrodes used for synaptic stimulation (Syn), or direct depolarizati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2546280"/>
            <a:ext cx="8604360" cy="2462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haniel N. Urban et al. J Neurophysiol 1998;80:1558-15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8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