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st cells from lesioned cortex were insensitive to 20 nM zolpidem. A: averaged miniature inhibitory postsynaptic current (mIPSC) records before and after zolpidem application. An increase in peak amplitude during 100 nM zolpidem exposure is apparent in these traces. B: averaged traces were normalized to their peak values. Enhancement of the decay time constant in 100 nM zolpidem is apparent. C and D: probability distributions and the results of the Kolmogorov-Smirnov tests for decay time constant and peak amplitude, respectively. The number of events in each distribution was 106, 98, and 108 for control, 20 and 100 nM zolpidem,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 cell from a lesioned animal sensitive to 20 and 100 nM zolpidem. A: averaged traces illustrate a modest increase in peak amplitude. B: normalized traces showing the large increases in decay time constant in both 20 and 100 nM zolpidem. C and D: decay time constant and amplitude probability distributions. Asterisks indicate degree of significance: ***P &lt; 0.001, **P &lt; 0.005, and *P &lt; 0.05. Each distribution contained 166, 164, 160, and 157 events for control, 20 nM, 100 nM, and was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the effects of zolpidem on decay time constants from nonlesioned and lesioned animals. The percent change relative to the prezolpidem control period for each cell was averaged and compared with results obtained in our previous study in nonlesioned cortex. The control (from nonlesioned animals) study consisted of 9 cells exposed to 20 nM zolpidem and 5 cells exposed to 100 nM zolpidem. A total of 9 cells from lesioned cortex was exposed to 20 nM zolpidem, and 7 of those cells were also exposed to 100 nM zolpidem. Six of 9 cells from lesioned cortex were insensitive to 20 nM zolpidem. Asterisks indicate level of significance: *P &lt; 0.03 and **P &lt; 0.001. Error bars indicate 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duction of Zolpidem Sensitivity in a Freeze Lesion Model of Neocortical Dysgene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 Anthony Defazio, and John J. Hablitz</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1(1):404-40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st cells from lesioned cortex were insensitive to 20 nM zolpidem.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584360" y="1079640"/>
            <a:ext cx="6916680" cy="5394240"/>
          </a:xfrm>
          <a:prstGeom prst="rect">
            <a:avLst/>
          </a:prstGeom>
          <a:ln w="0">
            <a:noFill/>
          </a:ln>
        </p:spPr>
      </p:pic>
      <p:sp>
        <p:nvSpPr>
          <p:cNvPr id="49" name=""/>
          <p:cNvSpPr/>
          <p:nvPr/>
        </p:nvSpPr>
        <p:spPr>
          <a:xfrm>
            <a:off x="1584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 Anthony Defazio, and John J. Hablitz J Neurophysiol 1999;81:404-40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 cell from a lesioned animal sensitive to 20 and 100 nM zolpidem.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495440" y="1079640"/>
            <a:ext cx="7093080" cy="5394240"/>
          </a:xfrm>
          <a:prstGeom prst="rect">
            <a:avLst/>
          </a:prstGeom>
          <a:ln w="0">
            <a:noFill/>
          </a:ln>
        </p:spPr>
      </p:pic>
      <p:sp>
        <p:nvSpPr>
          <p:cNvPr id="54" name=""/>
          <p:cNvSpPr/>
          <p:nvPr/>
        </p:nvSpPr>
        <p:spPr>
          <a:xfrm>
            <a:off x="1495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 Anthony Defazio, and John J. Hablitz J Neurophysiol 1999;81:404-40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the effects of zolpidem on decay time constants from nonlesioned and lesioned anim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739800" y="1763640"/>
            <a:ext cx="8604360" cy="402444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 Anthony Defazio, and John J. Hablitz J Neurophysiol 1999;81:404-40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