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voked paroxysmal discharges have both excitatory and inhibitory components. A: an image of the recording arrangement taken at 4× magnification. The stimulation site was in deep cortical layers ∼0.5 mm lateral to the lesion. The recording site was ∼1 mm lateral to the stimulation site and 1–2 mm lateral to the lesion.B: infrared/differential interference contrast image of layer 2/3 pyramidal cells (160×; 40× water immersion, 4× magnification before the camera). Recordings were restricted to pyramidal shaped cells with an apical dendrite projecting to the pial surface. C: voltage clamp recordings of responses evoked at membrane potentials from −80 to 20 mV. Epileptiform discharges at −40 and −20 mV were biphasic, suggesting a mixture of excitatory and inhibitory components. D: plots of the early and late component amplitudes as a function of vol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N-methyl-d-aspartate receptor (NMDAR) antagonist d-2-amino-5-phosphopentanoic acid (APV) increases the threshold and reduces the amplitude and area of evoked epileptiform discharges. A: specimen records showing that10 μM APV reversibly reduced the peak amplitude and area of the evoked epileptiform discharge. Traces are aligned on the rising phase to demonstrate changes in area. B: effects of APV on input-output relations. Stimulus intensity was varied by changing the duration of the current pulse. Brief pulses (≤60 μsec) did not evoke a detectable current. Under control conditions, stimulus durations exceeding 60 μsec evoked all-or-nothing events (●). 10 μM APV increased the threshold threefold in this recording. After 30 min wash, the threshold was still slightly elevated, with a small event evoked at a stimulus duration of 80 μsec. The holding potential was −60 mV for this and all the following fig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NR2B subunit–selective antagonist ifenprodil reduces epileptiform discharges in slices from lesioned animals.A: in these recordings, evoked responses consisted of a rapid, possibly monosynaptic, response followed by an epileptiform discharge. These short latency responses were observed in 20% of the recordings in slices from lesioned animals with distal stimulation (&gt;1 mm medial to recording site, adjacent to lesion). Similar stimulation in slices from nonlesioned animals in normal saline did not evoke appreciable currents at the recording site. B: the time course of the experiment summarizes the effects of ifenprodil in slices from lesioned animals. The first 5 min of the experiment reflects the stimulus duration dependence of the epileptiform discharge. Data points (a) represent subthreshold pulses of 20 and 40 μsec. Stimulus durations ≥60 μsec evoked a maximal response. Ifenprodil reduced the area of the epileptiform discharge as well as the threshold. At (b) and (c), stimulus duration dependence was tested again. Stimulus durations &lt;100 μsec did not evoke a late discharge. ← indicates a failure at 100 μsec (also shown in 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artial disinhibition revealed a larger discharge that was similar in waveform in lesioned and nonlesioned cortex. A: peak amplitude of the epileptiform discharge under control conditions in lesioned cortex was significantly smaller (P &lt; 0.001, n = 10) than the response recorded in the presence of 2 μM bicuculline in both lesioned and nonlesioned cortex (both n = 7). B: the area was also significantly smaller (P &lt; 0.001). These data support the observation that the mechanisms underlying hyperexcitability in lesioned cortex are inconsistent with a loss of inhib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fenprodil modifies the epileptiform discharge in slices from nonlesioned animals in the presence of 2 μM bicuculline. The discharge amplitude was reduced with little effect on threshold.A: 10 μM ifenprodil reduced the amplitude and area of the epileptiform discharge. B: time course of ifenprodil antagonism and a small increase in threshold are shown. Two 60 μsec stimuli did not evoke the all-or-nothing current response under control conditions; however, stimulus durations ≥80 μsec reliably evoked the discharge. In the presence of ifenprodil, 3 stimulations at 80 μsec were subthreshold whereas 100 μsec continued to reliably evoke the response. Thus a 25% increase in threshold was observed in this recording. This was the average increase in threshold by ifenprodil in nonlesioned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fenprodil increased the threshold by an average of 49% in slices from lesioned animals exposed to bicuculline. A: in 2 μM bicuculline, lesioned slices displayed an epileptiform discharge similar in waveform and amplitude to that observed in control animals (compare with Fig. 5). B: ifenprodil raised the threshold for evoking the discharge from 70 μsec in Ato 100 μsec in B, a 43% increase. C: on washout, the 70 μsec stimulation evoked a response similar to the control response in A. The amplitude to the response to 100 μsec was increased relative to that in the presence of ifenprod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ummary graph showing the results from the 4 experimental conditions. The ifenprodil-induced increase in threshold was significantly less in control animals in the presence of 2 μM bicuculline (P &lt; 0.05). The effects of NMDAR antagonists on peak amplitude and area were more variable; however, ifenprodil had significantly greater effect on peak amplitude in normal saline than in bicuculline (P &lt; 0.05). Both APV and ifenprodil had greater effects on area in the absence of bicuculline (P &lt; 0.01). See Table 1 for the numbers of slices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terations in NMDA Receptors in a Rat Model of Cortical Dyspl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R. Anthony DeFazio, and John J. Habli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JN Physi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83(1):315-3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1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voked paroxysmal discharges have both excitatory and inhibitory compone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65480" y="1079640"/>
            <a:ext cx="55530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654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-methyl-d-aspartate receptor (NMDAR) antagonist d-2-amino-5-phosphopentanoic acid (APV) increases the threshold and reduces the amplitude and area of evoked epileptiform discharg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1895400"/>
            <a:ext cx="8604360" cy="376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R2B subunit–selective antagonist ifenprodil reduces epileptiform discharges in slices from lesioned animals.A: in these recordings, evoked responses consisted of a rapid, possibly monosynaptic, response followed by an epileptiform dischar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1386000"/>
            <a:ext cx="8604360" cy="4779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ial disinhibition revealed a larger discharge that was similar in waveform in lesioned and nonlesioned corte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1601640"/>
            <a:ext cx="8604360" cy="434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enprodil modifies the epileptiform discharge in slices from nonlesioned animals in the presence of 2 μM bicucull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9800" y="1579680"/>
            <a:ext cx="8604360" cy="439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enprodil increased the threshold by an average of 49% in slices from lesioned animals exposed to bicuculli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9800" y="1620720"/>
            <a:ext cx="8604360" cy="4311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mmary graph showing the results from the 4 experimental cond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19400" y="1079640"/>
            <a:ext cx="564516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194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. Anthony DeFazio, and John J. Hablitz J Neurophysiol 2000;83:315-3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0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