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rrangement of the recording pipette (R) and the agonist puffer pipette (P) in the hippocampal CA1 region. A: interneuron in stratum radiatum was recorded while acetylcholine (ACh) was pressure-delivered through a puffer pipette onto the soma of the recorded neuron. B: pyramidal neuron in s. pyramidale was recorded while ACh was pressure-applied by a puffer pipette onto an interneuron in s. radiatum. a, alveus; s.o., s. oriens; s.p., s. pyramidale; s.r., s. radiatum; s.l.-m., s. lacunosum–molecula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cal puffer application of ACh onto the soma of s. radiatum interneurons activated nicotinic ACh receptor (nAChR) currents. Neurons were voltage-clamped near their resting potentials at −60 mV.A: ACh-induced methyllycaconitine (MLA)-sensitive or mecamylamine-sensitive currents. A fast current response to a 5-ms puff of 1 mM ACh was blocked by 20 nM MLA and recovered after washout (top). ↓, time at which ACh was applied. A relatively slow current response to a 500-ms puff of 1 mM ACh was partially blocked by 20 nM MLA and completely blocked by 25 μM mecamylamine (bottom). B: 1-s puffer application of 200 μM ACh induced an interneuron to fire action potentials. MLA (20 nM) reversibly blocked the voltage response. •, duration of the agonist application. Bicuculline (20 μM) was present to block GABAA recepto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h-sensitive and -insensitive neurons in CA1 s. radiatum displayed distinguishable membrane properties. A: voltage responses of an ACh-sensitive neuron to a 300-ms current step with intensities of −500, 50, and 60 pA, respectively (left) and to a 1-s step of 650 pA (right). B: voltage responses of an ACh-insensitive neuron to a 300-ms current step with intensities of −500, 100, and 150 pA, respectively (left) and to a 1-s step of 800 pA (right). Responses of the ACh-sensitive neurons are indicative of GABAergic interneur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h applied to interneurons in the CA1 s. radiatum produced GABAA-mediated inhibition of pyramidal neurons. 6-cyano-7-nitroquinoxalene-2,3-dione (CNQX, 25 μM) and (±12)-2-amino-5-phosphonovaleric acid (AP-5, 50 μM) were present in the bath solution. A: 1-s application of 200 μM ACh to a s. radiatum interneuron elicited a bicuculline-sensitive current in a pyramidal neuron. A Cs+-based internal solution containing 60 mM Cl− was used in the recording pipette. Membrane potential was clamped at −50 mV. a: 2-s trace of spontaneous activity without ACh application. b: current response of the pyramidal neuron while 200 μM ACh was being applied to the s. radiatum interneuron. c: blockade of the ACh-induced response by 10 μM bicuculline. d: recovery of the ACh-induced response after a 5-min washout of bicuculline. •, duration of the ACh application onto the interneuron.B: ACh-application onto interneurons induced GABAA activity in pyramidal neurons. ACh-induced GABAA-mediated charge transfer averaged from 7 pyramidal neurons recorded with 135 mM internal Cl− and from 3 pyramidal neurons recorded with 60 mM internal Cl−. In these experiments, 200 μM ACh was applied for 1 s. For comparison, the average charge transfer is also shown for the spontaneous traces (spon) obtained without applying A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icotinic antagonists blocked the ACh-induced GABAergic synaptic activity recorded from pyramidal neurons. CNQX (25 μM) and AP-5 (50 μM) were present in the bath solution. Patch-pipette solution contained 60 mM Cl−. A: ACh-induced effect recorded from a pyramidal neuron was blocked by 20 nM MLA.a: trace of spontaneous GABA activity. b: response recorded from the pyramidal neuron while ACh (1 mM) was pressure-applied to an interneuron. c: blockade of the response by 20 nM MLA. d: partial recovery of the response after washout of MLA. B: ACh-induce effect recorded from another pyramidal neuron was blocked partially by 20 nM MLA but was blocked completely by 25 μM mecamylamine.a: trace of spontaneous GABA activity. b: response recorded from the pyramidal neuron while ACh (1 mM) was pressure-applied to an interneuron. c: partial blockade of the response by 20 nM MLA. d: recovery of the response after washout of MLA. e: complete blockade of the response by 25 μM mecamylamine. f: partial recovery of the response after washout of mecamylamine. •, duration of the agonist applic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h-induced GABAergic activity recorded from pyramidal neurons was TTX sensitive. CNQX (25 μM) and AP-5 (50 μM) were present in the bath solution, and 60 mM Cl− was included in the patch pipette.A: trace of spontaneous GABA activity. B: response recorded from the pyramidal neuron while ACh (1 mM) was pressure-applied to an interneuron. C: blockade of the ACh-induced response by 0.5 μM TTX. Also note that TTX blocked the spontaneous, action-potential-dependent synaptic currents but not the small currents arising from the quantal release of GABA.D: recovery of the response after washout of TTX. •, duration of the agonist applic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h applied onto an interneuron in the CA1 s. radiatum produced disinhibition of a pyramidal neuron. CNQX (25 μM) and AP-5 (50 μM) were present in the bath solution, and 60 mM Cl− was included in the patching pipette. a: trace of spontaneous GABA activity recorded from the pyramidal neuron.b: reduction of the spontaneous GABAergic synaptic activity produced by pressure application of ACh (1 mM) onto an interneuron in CA1 s. radiatum. c: partial blockade of the ACh-induced reduction by 20 nM MLA. d: recovery of the ACh-induced reduction after washout of MLA. e: blockade of the ACh-induced reduction by 25 μM mecamylamine.f: blockade of the spontaneous activity by 10 μM bicuculline. •, duration of the agonist appl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nhibition and Disinhibition of Pyramidal Neurons by Activation of Nicotinic Receptors on Hippocampal Interneuron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Daoyun Ji, and John A. Dani</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3(5):2682-269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1, 200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rrangement of the recording pipette (R) and the agonist puffer pipette (P) in the hippocampal CA1 reg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3022560" y="1079640"/>
            <a:ext cx="4040280" cy="5394240"/>
          </a:xfrm>
          <a:prstGeom prst="rect">
            <a:avLst/>
          </a:prstGeom>
          <a:ln w="0">
            <a:noFill/>
          </a:ln>
        </p:spPr>
      </p:pic>
      <p:sp>
        <p:nvSpPr>
          <p:cNvPr id="49" name=""/>
          <p:cNvSpPr/>
          <p:nvPr/>
        </p:nvSpPr>
        <p:spPr>
          <a:xfrm>
            <a:off x="30225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oyun Ji, and John A. Dani J Neurophysiol 2000;83:2682-269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cal puffer application of ACh onto the soma of s. radiatum interneurons activated nicotinic ACh receptor (nAChR) current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3013200" y="1079640"/>
            <a:ext cx="4057560" cy="5394240"/>
          </a:xfrm>
          <a:prstGeom prst="rect">
            <a:avLst/>
          </a:prstGeom>
          <a:ln w="0">
            <a:noFill/>
          </a:ln>
        </p:spPr>
      </p:pic>
      <p:sp>
        <p:nvSpPr>
          <p:cNvPr id="54" name=""/>
          <p:cNvSpPr/>
          <p:nvPr/>
        </p:nvSpPr>
        <p:spPr>
          <a:xfrm>
            <a:off x="30132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oyun Ji, and John A. Dani J Neurophysiol 2000;83:2682-269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h-sensitive and -insensitive neurons in CA1 s. radiatum displayed distinguishable membrane properti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2278080" y="1079640"/>
            <a:ext cx="5530680" cy="5394240"/>
          </a:xfrm>
          <a:prstGeom prst="rect">
            <a:avLst/>
          </a:prstGeom>
          <a:ln w="0">
            <a:noFill/>
          </a:ln>
        </p:spPr>
      </p:pic>
      <p:sp>
        <p:nvSpPr>
          <p:cNvPr id="59" name=""/>
          <p:cNvSpPr/>
          <p:nvPr/>
        </p:nvSpPr>
        <p:spPr>
          <a:xfrm>
            <a:off x="22780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oyun Ji, and John A. Dani J Neurophysiol 2000;83:2682-269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h applied to interneurons in the CA1 s. radiatum produced GABAA-mediated inhibition of pyramidal neurons. 6-cyano-7-nitroquinoxalene-2,3-dione (CNQX, 25 μM) and (±12)-2-amino-5-phosphonovaleric acid (AP-5, 50 μM) were present in the bath solutio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1778040" y="1079640"/>
            <a:ext cx="6530760" cy="5394240"/>
          </a:xfrm>
          <a:prstGeom prst="rect">
            <a:avLst/>
          </a:prstGeom>
          <a:ln w="0">
            <a:noFill/>
          </a:ln>
        </p:spPr>
      </p:pic>
      <p:sp>
        <p:nvSpPr>
          <p:cNvPr id="64" name=""/>
          <p:cNvSpPr/>
          <p:nvPr/>
        </p:nvSpPr>
        <p:spPr>
          <a:xfrm>
            <a:off x="17780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oyun Ji, and John A. Dani J Neurophysiol 2000;83:2682-2690</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icotinic antagonists blocked the ACh-induced GABAergic synaptic activity recorded from pyramidal neuron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1601640" y="1079640"/>
            <a:ext cx="6882120" cy="5394240"/>
          </a:xfrm>
          <a:prstGeom prst="rect">
            <a:avLst/>
          </a:prstGeom>
          <a:ln w="0">
            <a:noFill/>
          </a:ln>
        </p:spPr>
      </p:pic>
      <p:sp>
        <p:nvSpPr>
          <p:cNvPr id="69" name=""/>
          <p:cNvSpPr/>
          <p:nvPr/>
        </p:nvSpPr>
        <p:spPr>
          <a:xfrm>
            <a:off x="16016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oyun Ji, and John A. Dani J Neurophysiol 2000;83:2682-2690</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h-induced GABAergic activity recorded from pyramidal neurons was TTX sensitiv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2540160" y="1079640"/>
            <a:ext cx="5005080" cy="5394240"/>
          </a:xfrm>
          <a:prstGeom prst="rect">
            <a:avLst/>
          </a:prstGeom>
          <a:ln w="0">
            <a:noFill/>
          </a:ln>
        </p:spPr>
      </p:pic>
      <p:sp>
        <p:nvSpPr>
          <p:cNvPr id="74" name=""/>
          <p:cNvSpPr/>
          <p:nvPr/>
        </p:nvSpPr>
        <p:spPr>
          <a:xfrm>
            <a:off x="254016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oyun Ji, and John A. Dani J Neurophysiol 2000;83:2682-2690</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h applied onto an interneuron in the CA1 s. radiatum produced disinhibition of a pyramidal neuron.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3233880" y="1079640"/>
            <a:ext cx="3617640" cy="5394240"/>
          </a:xfrm>
          <a:prstGeom prst="rect">
            <a:avLst/>
          </a:prstGeom>
          <a:ln w="0">
            <a:noFill/>
          </a:ln>
        </p:spPr>
      </p:pic>
      <p:sp>
        <p:nvSpPr>
          <p:cNvPr id="79" name=""/>
          <p:cNvSpPr/>
          <p:nvPr/>
        </p:nvSpPr>
        <p:spPr>
          <a:xfrm>
            <a:off x="323388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oyun Ji, and John A. Dani J Neurophysiol 2000;83:2682-2690</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