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rief and short-term corticofugal inhibition on auditory responses of an inferior collicular (IC) neuron. A: the neuron's discharge pattern in peristimulus time histograms (PST) obtained with a best frequency sound delivered at 10 dB above the minimum threshold (MT; ASIC, shown in short horizontal bar) before (Aa, Ai), during (Ab) and after (A, c–h and j–q) cortical electrical stimulation (ESAC). This neuron discharged a total of 81 (Aa) or 82 (Ai) impulses to ASIC. Sound stimulation plus cortical electrical stimulation (ASIC + ESAC, 4-ms train of 4 pulses of 0.1 ms, at 33 μA and 2 trains/s, shown in arrow) produced only 41 impulses (Ab). After ASIC + ESAC, the number of impulses in response to ASIC increased to 76 (Ac), which varied between 76 and 80 when monitored over a period of 25 min at 5-min intervals (A, d–h). This fast recovery from ESAC is called brief corticofugal modulation. However, after 30-min sound stimulation (delivered at the BFAC and 10 dB above the MTAC of the AC neuron) plus cortical electrical stimulation (ASAC + ESAC at 10 trains/s), the neuron's number of impulses elicited by ASIC gradually returned to within 5% of its control values (Ai) over a period of 35 min (A, j–q). This slow recovery from ESAC is called short-term corticofugal modulation. B–D: time course for variation in the number of impulses (B), MT (C), and latency (D) of the collicular neuron during brief (open circles, Ba, Ca, and Da) and short-term (filled circles, Bb, Cb, and Db) corticofugal inhibition. The neuron's number of impulses, MT, and latency determined under ASIC and ASIC + ESAC stimulation conditions are shown in open and filled triangles. The BF (kHz), MT (dB SPL), and latency (ms) of the IC and AC neurons were 29.8, 61, 9 (IC); 29.9, 54, 12 (A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rief and short-term corticofugal facilitation on auditory responses of a collicular neuron. A: the neuron's PST histograms obtained with an ASIC before (A, a andi), during (Ab) and after (A, c–h andj–q) the ESAC. This neuron discharged 45 (Aa) or 46 (Ai) impulses to ASIC (shown in short horizontal bar). During ASIC + ESAC, this neuron discharged a total of 64 (Ab) impulses. On cessation of ASIC + ESAC, the neuron's number of impulses in response to ACIC decreased to 48 (Ab), which varied between 44 and 48 when monitored over a period of 25 min (A, d–h). However, on cessation of ASAC + ESAC, the number of impulses was increased to 70, which gradually returned to within 2% of the control value (Ai) over a period of 25 min (Ao). B–D: time course for variation in the number of impulses (B), MT (C), and latency (D) during brief (open circles, Ba, Ca, andDa) and short-term (filled circles, Bb, Cb, andDb) corticofugal facilitation. The neuron's number of impulses, MT, and latency determined under ASICand ASIC + ESAC stimulation conditions are shown in open and filled triangles. The BF (kHz), MT (dB SPL), and latency (ms) of the IC and AC neurons were 38.1, 51, 9 (IC); 36.4, 56, 15 (AC; see Fig. 1 for legend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time course for variation in the number of impulses (A1and B1), MT (A2 and B2), and latency (A3 and B3) during brief (open circles) and short-term (filled circles) corticofugal inhibition (A1–A3) and facilitation (B1–B3) of auditory responses of 2 collicular neurons. The number of impulses, MT, and latency determined under ASIC and ASIC + ESAC stimulation conditions are shown in open and filled triangles. Note that the number of impulses, MT, and latency of these 2 neurons returned to within 5% of the control level (open triangles) on cessation of both ASIC + ESAC and ASAC + ESAC stimulation conditions. The BF (kHz), MT (dB SPL), and latency (ms) of the IC and AC neurons were 27.6, 52, 12.5 (IC) and 21.5, 68, 18 (AC) forneuron A; 35.9, 67, 10 (IC) and 32.0, 78, 16 (AC) forneuro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ief and Short-Term Corticofugal Modulation of Subcortical Auditory Responses in the Big Brown Bat, Eptesicus fus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Xiaoming Zhou, and Philip H.-S. J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JN Phys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84(6):3083-30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cember 1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and short-term corticofugal inhibition on auditory responses of an inferior collicular (IC) neur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08400" y="1079640"/>
            <a:ext cx="52686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0840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iaoming Zhou, and Philip H.-S. Jen J Neurophysiol 2000;84:3083-30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and short-term corticofugal facilitation on auditory responses of a collicular neur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2160" y="1079640"/>
            <a:ext cx="52210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21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iaoming Zhou, and Philip H.-S. Jen J Neurophysiol 2000;84:3083-30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time course for variation in the number of impulses (A1and B1), MT (A2 and B2), and latency (A3 and B3) during brief (open circles) and short-term (filled circles) corticofugal inhibition (A1–A3) and facilitation (B1–B3) of auditory responses of 2 colli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1320" y="1079640"/>
            <a:ext cx="55245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13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iaoming Zhou, and Philip H.-S. Jen J Neurophysiol 2000;84:3083-30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