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triatal long-term potentiation (LTP) in Mg2+-free solution. ↑, time of high-frequency stimulation (HFS). ▭, perfusion with Mg2+-free solution. - - -, baseline taken as the average of last 5 min responses before HFS. A: measurements of the slope (○) and peak amplitude (□) of postsynaptic responses, showing at each time point the average of 6 consecutive responses evoked at 0.1 Hz. B: response to cortical test stimulus just prior to HFS and 20 min after HFS. i: traces at time points b and c shown overlaid; ii: initial part of traces on expanded timebase so that differences in slope can be seen. Each trace is an average of 6 consecutive responses. C: superimposed responses to a series of current pulses 10 min before HFS (i, time a) and 20 min after HFS (ii,time c). All data from same c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ffects of SCH 23390 on striatal LTP in Mg2+-free solution. Same layout as in Fig.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ffects of remoxipride on striatal LTP in Mg2+-free solution. Same layout as in Fig.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Dopamine D-1/D-5 receptor antagonists, but not D-2 antagonists, block Mg2+-free LTP in the neostriatum. Percentage change from baseline, taken as the average of last 5 min responses before HFS, group averages across all cells in each treatment group.A: change in postsynaptic potential (PSP) slope.B: change in PSP peak amplitude. □, Mg2+-free controls (n = 6); ▴, Mg2+-free plus remoxipride (n = 4); ●, Mg2+-free plus SCH 23390 (n = 5). *, significant difference from controls (P &lt; 0.05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g2+-free LTP is blocked by dopamine depletion and restored by dopamine D-1 receptor agonist. A: alpha-methyl para tyrosine (AMPT) pretreatment blocks Mg2+-free LTP of PSP peak amplitude. B: AMPT pretreatment blocks Mg2+-free LTP of PSP slope. C: after AMPT pretreatment, addition of the D-1 agonist SKF 38393 restores Mg2+-free LTP of PSP peak amplitude. D: SKF 38393 restores Mg2+-free LTP of PSP slope.E: group average of peak amplitude data from AMPT-treated controls and slices treated with SKF 38393.F: slope data for same slices as in E. *, significant difference between groups (P &lt; 0.05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pamine D-1/D-5 Receptor Activation Is Required for Long-Term Potentiation in the Rat Neostriatum In Vi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J.N.D. Kerr, and J. R. Wick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JP - JN Physi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85(1):117-1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anuary 1,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1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iatal long-term potentiation (LTP) in Mg2+-free solution. ↑, time of high-frequency stimulation (HFS). ▭, perfusion with Mg2+-free solution. - - -, baseline taken as the average of last 5 min responses before HFS. A: measurements of the slope (○) and pea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62240" y="1079640"/>
            <a:ext cx="376092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6224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.N.D. Kerr, and J. R. Wickens J Neurophysiol 2001;85:117-1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1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ffects of SCH 23390 on striatal LTP in Mg2+-free solu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78000" y="1079640"/>
            <a:ext cx="392940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780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.N.D. Kerr, and J. R. Wickens J Neurophysiol 2001;85:117-1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1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ffects of remoxipride on striatal LTP in Mg2+-free solu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89240" y="1079640"/>
            <a:ext cx="370692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18924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.N.D. Kerr, and J. R. Wickens J Neurophysiol 2001;85:117-1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1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opamine D-1/D-5 receptor antagonists, but not D-2 antagonists, block Mg2+-free LTP in the neostriatu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610000" y="1079640"/>
            <a:ext cx="4863960" cy="5394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610000" y="6583320"/>
            <a:ext cx="43192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.N.D. Kerr, and J. R. Wickens J Neurophysiol 2001;85:117-1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1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g2+-free LTP is blocked by dopamine depletion and restored by dopamine D-1 receptor agonis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098800" y="1079640"/>
            <a:ext cx="5889600" cy="5394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98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.N.D. Kerr, and J. R. Wickens J Neurophysiol 2001;85:117-1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1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