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46321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euronal model description of spike discharge modulation.A and B: 2 superimposed magnitude functions (—) are shown for type A and B neurons (A andB) with model fits (- - -) that were based on the calibration from spikes/s to MΩ shown in C andD. The resting and depolarized spike discharge (spike/s) amplitude modulations show a greater increase in amplitude for the Type B (B) compared with the type A neuron. The model fits for the type A neuron in A were done with 1 potassium conductance, g K = 1.5 nS, υn = −50 mV, s n = 0.02, and t n = 0.03 s. The remaining parameters and type B fits are described in the following text. C and D: hyperpolarized impedance amplitudes for both type A and B neurons are shown along with calibrated spike discharge AM at resting and depolarized levels. - - -, model fits with the following parameters: type A,c soma = 11 pF, A = 26.8, L = 0.55,g soma = 0.3 nS,g K2 = 20 nS, υq = −44 mV, s q = 0.035,t q = 3.4 s,r q = 0;g K1 = 50 nS, υn = −34 mV, s n = 0.06,t n = 0.34 s,r n = 0; type B,c soma = 15 pF,a ratio = 14, L = 0.37, g K1 = 11 nS, υn = −58 mV, s n = 0.17, t n = 0.03 s,g K2 = 14 nS, υq = −41 mV, s q = 0.02,t q = 1.1 s,r q = 0. These parameters were used inB. E and F: corresponding phase functions for C and D. The most hyperpolarized response was measured directly from the membrane potential deflection responses free of action potentials. The resting and depolarized cases were measured with spike discharge modulation. Note that the low-frequency impedance decreases with depolarization, however, as the frequency increases, the magnitude of the impedance approaches a maximum resonance frequency that is dependent on the membrane potential. The phase functions corresponding to the resonating amplitudes show a phase lead at low frequencies that crosses 0 and becomes a phase lag at high frequencies. At the most hyperpolarized levels, the resonance and phase lead disappear. The decrease in the impedance magnitude observed with depolarization has been modeled with 1 or 2 potassium conductances. See text for further detai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asurement of spike discharge modulation for type A and B neurons. The recorded action potentials were used to classify type A and B neurons as illustrated in A by differences in negative afterpotentials. A sinusoidal current (D) was injected into the neurons to modulate the rate of impulse discharge (B). Instantaneous firing rates modulations were calculated and fitted with a sine wave (C) to obtain the magnitude and phase shifts at different stimulating frequencies, which were then fitted to a neuronal model. The spike discharge modulation amplitude (spikes/s) was expressed as an impedance magnitude (MΩ) by estimating the sinusoidal potential (B) excursion (∼4 mV), which provided a measure of the input resistance (50 MΩ = 4 mV/0.08 nA) that was equivalent to the modulation amplitude of 25 spikes/s (see 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 discharge modulation of a resting and depolarized type A neuron. Modulated action potential responses to sinusoidal current stimuli (sine amplitude of 0.09 nA) are shown for the indicated frequency ranges and analyzed by superimposing a fitted sine wave (smooth lines) on the instantaneous firing rate (spikes/s) derived from the spike records. The discharge modulation at rest (A) was effective up to 6 Hz in this type A cell; however, a maintained depolarization of 0.3 nA (B) increased the steady-state discharge from 30 (A and C) to 57 Hz (B and D) and increased the range of adequate modulation ≤12 Hz (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imits of spike discharge modulation of a resting and depolarized type B neuron. A: action potential responses to a 0.8-Hz sinusoidal current stimulus that invoked a modulation of the action potential firing rate. Instantaneous firing rate (spikes/s) analysis ofA, top, and superimposed fitted sine wave (smooth lines). B: spike discharge modulation as inA but during a maintained depolarizing current of 0.5 nA. C: spike discharge modulation to a 7.3-Hz current stimulus. Instantaneous firing rate (spikes/s) analysis ofC and superimposed fitted sine wave (smooth lines).D: the depolarized type B neuron shows significantly better modulation at 7.3 Hz. The stimulating current amplitude was 0.13 n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 discharge modulation of a resting and depolarized type B neuron.A: spike discharge modulation to a 1-Hz stimulus with an amplitude of 0.13 nA. B: modulation during a maintained depolarization with 0.5 nA of steady state current. C: lack of modulation for a 10-Hz stimulus at the resting level.D: a 0.5-nA steady current depolarized the neuron and led to an increased discharge rate from 16 to 34 Hz. The higher steady-state action potential firing rate allowed significantly better modulation in the 5- to 10-Hz range compared with the resting neur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chronization of type A and B neurons to stimulation frequencies.A: the type A response at 30 Hz indicates that this neuron was unable to synchronize with the 30-Hz stimulus frequency, as indicated by the ↓. The measured instantaneous firing rate was 28 Hz, just below the 30-Hz stimulation frequency. B: although an improvement in the discharge modulation at intermediate frequencies was observed for this and other type A neurons, synchronization did not occur at higher frequencies. The illustrated depolarized type A neuron had an instantaneous firing rate above the 30-Hz stimulus, which was clearly not in synchrony with the sine wave stimulus. Cand D: the type B neuron shows very poor discharge modulation past 7 Hz (see Fig. 3); however, good synchronization of the response was seen at 25 Hz for both the resting (C) and depolarized conditions (D). In the latter instance, action potential doublets were observ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ests of linearity of type A and B neurons. A: the amplitude of a type A response in spikes/s of the modulated spiking rate is plotted as a function of the stimulating frequency for 3 current levels (0.1, 0.5, and 1.3 nA). B: type B spike discharge modulation amplitude responses to 3 sinusoidal current levels (0.1, 0.2, and 0.3 nA) are shown as a function of frequency.C: the amplitude of the type A response is plotted as a function of the current amplitude for 4 frequencies (0.4, 1, 5, and 10 Hz). D: similar type B responses are shown as a function of sinusoidal current amplitu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ype A neuronal responses to ramp stimuli. A: a ramp current was given from a hyperpolarized level of −0.8 nA for 1 s to reach +0.2 nA. Action potential and instantaneous firing rates are given in the 2nd and 3rd traces, respectively, which show that the instantaneous firing rate follows the current without any overshooting response. B: a ramp current with a steeper slope ending at 0.5 s showed a similar response. In both cases, a slight decrease can be observed in the firing rate slopes during the positive depolarizing current, which is indicative of an activation of a potassium conductance. The final current level in each case was 0.2 nA, which induced a firing rate in excess of 100 spik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ype B neuronal responses to ramp stimuli. A: a ramp current was given from a hyperpolarized level of −0.4 nA for 4.24 s to reach +0.5 nA. Action potential and instantaneous firing rates are given in the 2nd and 3rd traces respectively, which show that the instantaneous firing rate follows the current with a small overshooting response. B: a ramp current with a steeper slope ending at 0.5 s showed a pronounced overshooting response in the firing rate. In both cases, a decrease can be observed in the firing rate slopes during the positive depolarizing current, which is indicative of an activation of a potassium conductance. The final current level in each case was 0.5 nA, which induced a firing rate near 100 spik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sonance of Spike Discharge Modulation in Neurons of the Guinea Pig Medial Vestibular Nucle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L. Ris, M. Hachemaoui, N. Vibert, E. Godaux, P. P. Vidal, and L. E. Moor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2):703-71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euronal model description of spike discharge modulation.A and B: 2 superimposed magnitude functions (—) are shown for type A and B neurons (A andB) with model fits (- - -) that were based on the calibration from spikes/s to MΩ shown in C andD.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2936880" y="1079640"/>
            <a:ext cx="4211640" cy="5394240"/>
          </a:xfrm>
          <a:prstGeom prst="rect">
            <a:avLst/>
          </a:prstGeom>
          <a:ln w="0">
            <a:noFill/>
          </a:ln>
        </p:spPr>
      </p:pic>
      <p:sp>
        <p:nvSpPr>
          <p:cNvPr id="89" name=""/>
          <p:cNvSpPr/>
          <p:nvPr/>
        </p:nvSpPr>
        <p:spPr>
          <a:xfrm>
            <a:off x="2936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asurement of spike discharge modulation for type A and B neur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011400" y="1079640"/>
            <a:ext cx="4060800" cy="5394240"/>
          </a:xfrm>
          <a:prstGeom prst="rect">
            <a:avLst/>
          </a:prstGeom>
          <a:ln w="0">
            <a:noFill/>
          </a:ln>
        </p:spPr>
      </p:pic>
      <p:sp>
        <p:nvSpPr>
          <p:cNvPr id="49" name=""/>
          <p:cNvSpPr/>
          <p:nvPr/>
        </p:nvSpPr>
        <p:spPr>
          <a:xfrm>
            <a:off x="3011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 discharge modulation of a resting and depolarized type A neur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181320" y="1079640"/>
            <a:ext cx="3722760" cy="5394240"/>
          </a:xfrm>
          <a:prstGeom prst="rect">
            <a:avLst/>
          </a:prstGeom>
          <a:ln w="0">
            <a:noFill/>
          </a:ln>
        </p:spPr>
      </p:pic>
      <p:sp>
        <p:nvSpPr>
          <p:cNvPr id="54" name=""/>
          <p:cNvSpPr/>
          <p:nvPr/>
        </p:nvSpPr>
        <p:spPr>
          <a:xfrm>
            <a:off x="3181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imits of spike discharge modulation of a resting and depolarized type B neur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3170160" y="1079640"/>
            <a:ext cx="3743280" cy="5394240"/>
          </a:xfrm>
          <a:prstGeom prst="rect">
            <a:avLst/>
          </a:prstGeom>
          <a:ln w="0">
            <a:noFill/>
          </a:ln>
        </p:spPr>
      </p:pic>
      <p:sp>
        <p:nvSpPr>
          <p:cNvPr id="59" name=""/>
          <p:cNvSpPr/>
          <p:nvPr/>
        </p:nvSpPr>
        <p:spPr>
          <a:xfrm>
            <a:off x="3170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 discharge modulation of a resting and depolarized type B neuron.A: spike discharge modulation to a 1-Hz stimulus with an amplitude of 0.13 nA.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3173400" y="1079640"/>
            <a:ext cx="3737160" cy="5394240"/>
          </a:xfrm>
          <a:prstGeom prst="rect">
            <a:avLst/>
          </a:prstGeom>
          <a:ln w="0">
            <a:noFill/>
          </a:ln>
        </p:spPr>
      </p:pic>
      <p:sp>
        <p:nvSpPr>
          <p:cNvPr id="64" name=""/>
          <p:cNvSpPr/>
          <p:nvPr/>
        </p:nvSpPr>
        <p:spPr>
          <a:xfrm>
            <a:off x="317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chronization of type A and B neurons to stimulation frequencies.A: the type A response at 30 Hz indicates that this neuron was unable to synchronize with the 30-Hz stimulus frequency, as indicated by the ↓.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363760" y="1079640"/>
            <a:ext cx="5359320" cy="5394240"/>
          </a:xfrm>
          <a:prstGeom prst="rect">
            <a:avLst/>
          </a:prstGeom>
          <a:ln w="0">
            <a:noFill/>
          </a:ln>
        </p:spPr>
      </p:pic>
      <p:sp>
        <p:nvSpPr>
          <p:cNvPr id="69" name=""/>
          <p:cNvSpPr/>
          <p:nvPr/>
        </p:nvSpPr>
        <p:spPr>
          <a:xfrm>
            <a:off x="236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ests of linearity of type A and B neuro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500200" y="1079640"/>
            <a:ext cx="5083200" cy="5394240"/>
          </a:xfrm>
          <a:prstGeom prst="rect">
            <a:avLst/>
          </a:prstGeom>
          <a:ln w="0">
            <a:noFill/>
          </a:ln>
        </p:spPr>
      </p:pic>
      <p:sp>
        <p:nvSpPr>
          <p:cNvPr id="74" name=""/>
          <p:cNvSpPr/>
          <p:nvPr/>
        </p:nvSpPr>
        <p:spPr>
          <a:xfrm>
            <a:off x="2500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ype A neuronal responses to ramp stimuli.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3490920" y="1079640"/>
            <a:ext cx="3102120" cy="5394240"/>
          </a:xfrm>
          <a:prstGeom prst="rect">
            <a:avLst/>
          </a:prstGeom>
          <a:ln w="0">
            <a:noFill/>
          </a:ln>
        </p:spPr>
      </p:pic>
      <p:sp>
        <p:nvSpPr>
          <p:cNvPr id="79" name=""/>
          <p:cNvSpPr/>
          <p:nvPr/>
        </p:nvSpPr>
        <p:spPr>
          <a:xfrm>
            <a:off x="3490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ype B neuronal responses to ramp stimuli.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3600360" y="1079640"/>
            <a:ext cx="2882880" cy="5394240"/>
          </a:xfrm>
          <a:prstGeom prst="rect">
            <a:avLst/>
          </a:prstGeom>
          <a:ln w="0">
            <a:noFill/>
          </a:ln>
        </p:spPr>
      </p:pic>
      <p:sp>
        <p:nvSpPr>
          <p:cNvPr id="84" name=""/>
          <p:cNvSpPr/>
          <p:nvPr/>
        </p:nvSpPr>
        <p:spPr>
          <a:xfrm>
            <a:off x="3600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 Ris et al. J Neurophysiol 2001;86:703-716</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