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SI with various display sizes. SSIs for display sizes of 2 × 2°, 4 × 4°, 6 × 6°, and 7 × 7°, presented to a quadrant, and of 6 × 6°, presented to a hemifield, for areas V1, V2, V4, TEO, and V3A. With a display of 2 × 2°, sensory suppression was significant in all areas, but V1. With a display size of 4 × 4°, sensory suppression was significant in V4, TEO, and V3A, but not in V1 or V2. With display sizes of 6 × 6° and 7 × 7° within-a-quadrant, there were significant suppressive interactions in TEO and V3A, but not in the remaining areas. Finally, no sensory suppression was seen with the 6 × 6° display presented to a hemifield in any of these areas (6 × 6, HF).</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direct demonstration of sensory suppression. A–C: data for 3 individual subjects. Left: topography of area V4. The representation of V4's UVF and its LVF are located medially and laterally, respectively, in separated but in adjacent locations on the fusiform gyrus. The UVF and the LVF are split along the HM. In the subject shown in C, the LVF was not activated in this coronal plane. Middle: the activity evoked by a single stimulus (2 × 2°) presented at 8° eccentricity just above the HM, as compared with blank presentations, was confined to V4's UVF representation. Right: more activity was evoked in V4's UVF when the stimulus was presented alone than when it was shown together with 3 stimuli in the LVF, presented just below the HM. In all presentation conditions, stimuli were presented for 250 ms at 1 Hz.</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ime series of fMRI signals and mean signal changes in V2 and V4 (experiment 3). A: time series of fMRI signals in V2's and V4's UVF, averaged across subjects (n = 3). A single stimulus presented just above the HM evoked stronger responses than when the same stimulus was presented together with 3 stimuli shown just below the HM. This effect was found in V4, but not in V2. B: mean signal changes to the single stimulus presented to the UVF above the HM, the 3 stimuli presented to the LVF stimulus below the HM, and the 4 stimuli presented together, averaged across subjects. For each subject, the 6 peak intensities of the fMRI signal obtained during the different conditions were averaged. * P &lt; 0.0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xperimental design. Four complex images (each 2 × 2° in size) were presented at 6–10° eccentricity from a fixation point, either sequentially (A) or simultaneously (B). Presentation time was 250 ms, followed by a blank period of 750 ms, on average, in each location. Stimulus location and order of presentation were randomized. A stimulation period of 1 s is shown, which was repeated in an ABBA scheme interleaved with equally long blank periods (C). Integrated over time, the physical stimulation parameters were identical in each of the 4 locations. However, sensory suppressive interactions could only take place in the simultaneous but not in the sequential presentation condition. Based on results from monkey physiology, we predicted therefore that the functional magnetic resonance imaging (fMRI) signal to simultaneous presentations would be smaller than to sequential presentations (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patial separation of stimuli. Examples of display sizes used inexperiment 2. Four stimuli, 0.5 × 0.5° each, were presented in displays of 2 × 2°, 4 × 4°, and 6 × 6° presented to the right upper quadrant, or in a 6 × 6° display presented to a hemifield (HF). All displays were centered at 5.5° eccentricity. For each display size, stimuli were presented sequentially or simultaneously in blocks of 18 s interleaved with blank periods, as in experiment 1.</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Brain regions activated in human visual cortex. A: brain areas activated by the complex images as compared with blank presentations (regressor 1). Coronal slices of a single subject at different distances from the posterior pole. Activated voxels were assigned to areas V1, V2, V4, TEO, V3A, and MT based on meridian mapping and upper visual field (UVF) and lower visual field (LVF) topography. B: brain regions more strongly activated by sequential than by simultaneous presentations (regressor 2). Same subject and coronal slices as inA. Sequential presentations evoked significantly more activity than simultaneous presentations in V4, TEO, V3A, and MT. The number below each coronal section indicates the approximatey Talairach coordinate. R indicates right hemisphe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ctivated brain regions on flattened surface reconstructions. Same subject as in Fig. 3. The flattened surface reconstruction shows areas in ventral visual cortex from V1 to TEO. White lines indicate representations of the vertical meridians, which form the areal boundaries of V1/V2 and VP/V4, respectively. Black lines indicate representations of the horizontal meridians (HM), which form the areal boundary of V2/VP and separate the UVF and LVF within V4, respectively. Another HM representation separates V4 from the lateral-occipital complex, LO. A: colored regions indicate activations evoked by visual presentations to the periphery of the visual field compared with blank periods (regressor 1). Ventral visual areas from V1 to TEO were activated. In this subject, there is also activity in LO. B: colored regions indicate activations evoked by the sequential compared with the simultaneous presentations (regressor 2). The sequential presentations evoked stronger responses than the simultaneous presentations in V4 and TEO. The star indicates the region of foveal representations of the visual fiel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ime series of fMRI signals in visual cortex. Averaged fMRI signals in V1, V2, V4, TEO, V3A, and MT (n = 8). Sequential presentations evoked significantly more activity than simultaneous presentations in all visual areas, but there was a graded increase in response differences in ventral visual areas from V1 to V4 and TEO. Differences in responses between sequential and simultaneous presentations were similar in ventral extrastriate areas V4 and TEO and dorsal extrastriate areas V3A and M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ean signal changes and sensory suppression index. A: mean signal changes in V1, V2, V4, TEO, V3A, and MT, averaged across subjects. For each subject, the 6 peak intensities of the fMRI signal obtained during sequential and simultaneous presentations were averaged. B: sensory suppression indexes (SSIs) derived for the data shown in A. SSIs increased from V1 to V4 and TEO, which suggests that the effects were scaled to the increasing receptive field (RF) sizes of neurons in these areas. SSIs were similar in ventral extrastriate areas V4 and TEO and dorsal extrastriate areas V3A and MT. Vertical bars indicate S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RF size hypothesis. RF sizes increase in size from V1 to TEO. The schematic drawing shows RF sizes in ventral visual cortex in relation to the 4 × 4° display used in experiment 1. Sensory suppression effects were likely scaled to the increasing RF sizes of neurons in these areas. Because of their small RFs, individual neurons in V1 and V2 would be capable of processing information only from a very limited portion of the 4 × 4° display, resulting in minimal interaction effects between stimuli; by contrast, neurons in V4 and TEO, with their larger RFs, would process information from all 4 stimuli in the display, resulting in significantly greater suppressive interaction effec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ime series of fMRI signals in ventral visual areas with display sizes of 2 × 2° and 7 × 7°. Four stimuli were presented either in the 2 × 2° display or in the 7 × 7° display within the same quadrant in sequential and simultaneous presentation conditions. Data are from a single subject. When stimuli were presented with the 2 × 2° display, response differences to sequentially and simultaneously presented stimuli were found in V2, V4, and TEO. When stimuli were presented with the 7 × 7° display, the response differences to the sequentially and simultaneously stimuli were abolished in V2 and V4, but unchanged in TE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Modulation of Sensory Suppression: Implications for Receptive Field Sizes in the Human Visual Cortex</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Sabine Kastner, Peter De Weerd, Mark A. Pinsk, M. Idette Elizondo, Robert Desimone, and Leslie G. Ungerleider</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JP - JN Physi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86(3):1398-1411</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September 1, 2001</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5133960" y="6602400"/>
            <a:ext cx="4467240" cy="712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SI with various display sizes. </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5133960" y="6602400"/>
            <a:ext cx="4467240" cy="712800"/>
          </a:xfrm>
          <a:prstGeom prst="rect">
            <a:avLst/>
          </a:prstGeom>
          <a:ln w="0">
            <a:noFill/>
          </a:ln>
        </p:spPr>
      </p:pic>
      <p:pic>
        <p:nvPicPr>
          <p:cNvPr id="88" name="" descr=""/>
          <p:cNvPicPr/>
          <p:nvPr/>
        </p:nvPicPr>
        <p:blipFill>
          <a:blip r:embed="rId2"/>
          <a:stretch/>
        </p:blipFill>
        <p:spPr>
          <a:xfrm>
            <a:off x="739800" y="1257480"/>
            <a:ext cx="8604360" cy="5038560"/>
          </a:xfrm>
          <a:prstGeom prst="rect">
            <a:avLst/>
          </a:prstGeom>
          <a:ln w="0">
            <a:noFill/>
          </a:ln>
        </p:spPr>
      </p:pic>
      <p:sp>
        <p:nvSpPr>
          <p:cNvPr id="8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bine Kastner et al. J Neurophysiol 2001;86:1398-1411</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direct demonstration of sensory suppression. </a:t>
            </a:r>
            <a:endParaRPr b="0" lang="en-US" sz="1600" spc="-1" strike="noStrike">
              <a:solidFill>
                <a:srgbClr val="000000"/>
              </a:solidFill>
              <a:latin typeface="Times New Roman"/>
            </a:endParaRPr>
          </a:p>
        </p:txBody>
      </p:sp>
      <p:pic>
        <p:nvPicPr>
          <p:cNvPr id="92" name="" descr=""/>
          <p:cNvPicPr/>
          <p:nvPr/>
        </p:nvPicPr>
        <p:blipFill>
          <a:blip r:embed="rId1"/>
          <a:stretch/>
        </p:blipFill>
        <p:spPr>
          <a:xfrm>
            <a:off x="5133960" y="6602400"/>
            <a:ext cx="4467240" cy="712800"/>
          </a:xfrm>
          <a:prstGeom prst="rect">
            <a:avLst/>
          </a:prstGeom>
          <a:ln w="0">
            <a:noFill/>
          </a:ln>
        </p:spPr>
      </p:pic>
      <p:pic>
        <p:nvPicPr>
          <p:cNvPr id="93" name="" descr=""/>
          <p:cNvPicPr/>
          <p:nvPr/>
        </p:nvPicPr>
        <p:blipFill>
          <a:blip r:embed="rId2"/>
          <a:stretch/>
        </p:blipFill>
        <p:spPr>
          <a:xfrm>
            <a:off x="2714760" y="1079640"/>
            <a:ext cx="4657680" cy="5394240"/>
          </a:xfrm>
          <a:prstGeom prst="rect">
            <a:avLst/>
          </a:prstGeom>
          <a:ln w="0">
            <a:noFill/>
          </a:ln>
        </p:spPr>
      </p:pic>
      <p:sp>
        <p:nvSpPr>
          <p:cNvPr id="94" name=""/>
          <p:cNvSpPr/>
          <p:nvPr/>
        </p:nvSpPr>
        <p:spPr>
          <a:xfrm>
            <a:off x="271476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bine Kastner et al. J Neurophysiol 2001;86:1398-1411</a:t>
            </a:r>
            <a:endParaRPr b="0" lang="en-US" sz="1200" spc="-1" strike="noStrike">
              <a:solidFill>
                <a:srgbClr val="000000"/>
              </a:solidFill>
              <a:latin typeface="Times New Roman"/>
            </a:endParaRPr>
          </a:p>
        </p:txBody>
      </p:sp>
      <p:sp>
        <p:nvSpPr>
          <p:cNvPr id="9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ime series of fMRI signals and mean signal changes in V2 and V4 (experiment 3). </a:t>
            </a:r>
            <a:endParaRPr b="0" lang="en-US" sz="1600" spc="-1" strike="noStrike">
              <a:solidFill>
                <a:srgbClr val="000000"/>
              </a:solidFill>
              <a:latin typeface="Times New Roman"/>
            </a:endParaRPr>
          </a:p>
        </p:txBody>
      </p:sp>
      <p:pic>
        <p:nvPicPr>
          <p:cNvPr id="97" name="" descr=""/>
          <p:cNvPicPr/>
          <p:nvPr/>
        </p:nvPicPr>
        <p:blipFill>
          <a:blip r:embed="rId1"/>
          <a:stretch/>
        </p:blipFill>
        <p:spPr>
          <a:xfrm>
            <a:off x="5133960" y="6602400"/>
            <a:ext cx="4467240" cy="712800"/>
          </a:xfrm>
          <a:prstGeom prst="rect">
            <a:avLst/>
          </a:prstGeom>
          <a:ln w="0">
            <a:noFill/>
          </a:ln>
        </p:spPr>
      </p:pic>
      <p:pic>
        <p:nvPicPr>
          <p:cNvPr id="98" name="" descr=""/>
          <p:cNvPicPr/>
          <p:nvPr/>
        </p:nvPicPr>
        <p:blipFill>
          <a:blip r:embed="rId2"/>
          <a:stretch/>
        </p:blipFill>
        <p:spPr>
          <a:xfrm>
            <a:off x="2806560" y="1079640"/>
            <a:ext cx="4472280" cy="5394240"/>
          </a:xfrm>
          <a:prstGeom prst="rect">
            <a:avLst/>
          </a:prstGeom>
          <a:ln w="0">
            <a:noFill/>
          </a:ln>
        </p:spPr>
      </p:pic>
      <p:sp>
        <p:nvSpPr>
          <p:cNvPr id="99" name=""/>
          <p:cNvSpPr/>
          <p:nvPr/>
        </p:nvSpPr>
        <p:spPr>
          <a:xfrm>
            <a:off x="28065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bine Kastner et al. J Neurophysiol 2001;86:1398-1411</a:t>
            </a:r>
            <a:endParaRPr b="0" lang="en-US" sz="1200" spc="-1" strike="noStrike">
              <a:solidFill>
                <a:srgbClr val="000000"/>
              </a:solidFill>
              <a:latin typeface="Times New Roman"/>
            </a:endParaRPr>
          </a:p>
        </p:txBody>
      </p:sp>
      <p:sp>
        <p:nvSpPr>
          <p:cNvPr id="10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xperimental design.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5133960" y="6602400"/>
            <a:ext cx="4467240" cy="712800"/>
          </a:xfrm>
          <a:prstGeom prst="rect">
            <a:avLst/>
          </a:prstGeom>
          <a:ln w="0">
            <a:noFill/>
          </a:ln>
        </p:spPr>
      </p:pic>
      <p:pic>
        <p:nvPicPr>
          <p:cNvPr id="48" name="" descr=""/>
          <p:cNvPicPr/>
          <p:nvPr/>
        </p:nvPicPr>
        <p:blipFill>
          <a:blip r:embed="rId2"/>
          <a:stretch/>
        </p:blipFill>
        <p:spPr>
          <a:xfrm>
            <a:off x="2943360" y="1079640"/>
            <a:ext cx="4197240" cy="5394240"/>
          </a:xfrm>
          <a:prstGeom prst="rect">
            <a:avLst/>
          </a:prstGeom>
          <a:ln w="0">
            <a:noFill/>
          </a:ln>
        </p:spPr>
      </p:pic>
      <p:sp>
        <p:nvSpPr>
          <p:cNvPr id="49" name=""/>
          <p:cNvSpPr/>
          <p:nvPr/>
        </p:nvSpPr>
        <p:spPr>
          <a:xfrm>
            <a:off x="294336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bine Kastner et al. J Neurophysiol 2001;86:1398-1411</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patial separation of stimuli.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5133960" y="6602400"/>
            <a:ext cx="4467240" cy="712800"/>
          </a:xfrm>
          <a:prstGeom prst="rect">
            <a:avLst/>
          </a:prstGeom>
          <a:ln w="0">
            <a:noFill/>
          </a:ln>
        </p:spPr>
      </p:pic>
      <p:pic>
        <p:nvPicPr>
          <p:cNvPr id="53" name="" descr=""/>
          <p:cNvPicPr/>
          <p:nvPr/>
        </p:nvPicPr>
        <p:blipFill>
          <a:blip r:embed="rId2"/>
          <a:stretch/>
        </p:blipFill>
        <p:spPr>
          <a:xfrm>
            <a:off x="739800" y="2220840"/>
            <a:ext cx="8604360" cy="3111480"/>
          </a:xfrm>
          <a:prstGeom prst="rect">
            <a:avLst/>
          </a:prstGeom>
          <a:ln w="0">
            <a:noFill/>
          </a:ln>
        </p:spPr>
      </p:pic>
      <p:sp>
        <p:nvSpPr>
          <p:cNvPr id="5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bine Kastner et al. J Neurophysiol 2001;86:1398-1411</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Brain regions activated in human visual cortex.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5133960" y="6602400"/>
            <a:ext cx="4467240" cy="712800"/>
          </a:xfrm>
          <a:prstGeom prst="rect">
            <a:avLst/>
          </a:prstGeom>
          <a:ln w="0">
            <a:noFill/>
          </a:ln>
        </p:spPr>
      </p:pic>
      <p:pic>
        <p:nvPicPr>
          <p:cNvPr id="58" name="" descr=""/>
          <p:cNvPicPr/>
          <p:nvPr/>
        </p:nvPicPr>
        <p:blipFill>
          <a:blip r:embed="rId2"/>
          <a:stretch/>
        </p:blipFill>
        <p:spPr>
          <a:xfrm>
            <a:off x="2419200" y="1079640"/>
            <a:ext cx="5247000" cy="5394240"/>
          </a:xfrm>
          <a:prstGeom prst="rect">
            <a:avLst/>
          </a:prstGeom>
          <a:ln w="0">
            <a:noFill/>
          </a:ln>
        </p:spPr>
      </p:pic>
      <p:sp>
        <p:nvSpPr>
          <p:cNvPr id="59" name=""/>
          <p:cNvSpPr/>
          <p:nvPr/>
        </p:nvSpPr>
        <p:spPr>
          <a:xfrm>
            <a:off x="24192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bine Kastner et al. J Neurophysiol 2001;86:1398-1411</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ctivated brain regions on flattened surface reconstruction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5133960" y="6602400"/>
            <a:ext cx="4467240" cy="712800"/>
          </a:xfrm>
          <a:prstGeom prst="rect">
            <a:avLst/>
          </a:prstGeom>
          <a:ln w="0">
            <a:noFill/>
          </a:ln>
        </p:spPr>
      </p:pic>
      <p:pic>
        <p:nvPicPr>
          <p:cNvPr id="63" name="" descr=""/>
          <p:cNvPicPr/>
          <p:nvPr/>
        </p:nvPicPr>
        <p:blipFill>
          <a:blip r:embed="rId2"/>
          <a:stretch/>
        </p:blipFill>
        <p:spPr>
          <a:xfrm>
            <a:off x="739800" y="1496880"/>
            <a:ext cx="8604360" cy="4557960"/>
          </a:xfrm>
          <a:prstGeom prst="rect">
            <a:avLst/>
          </a:prstGeom>
          <a:ln w="0">
            <a:noFill/>
          </a:ln>
        </p:spPr>
      </p:pic>
      <p:sp>
        <p:nvSpPr>
          <p:cNvPr id="6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bine Kastner et al. J Neurophysiol 2001;86:1398-1411</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ime series of fMRI signals in visual cortex.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5133960" y="6602400"/>
            <a:ext cx="4467240" cy="712800"/>
          </a:xfrm>
          <a:prstGeom prst="rect">
            <a:avLst/>
          </a:prstGeom>
          <a:ln w="0">
            <a:noFill/>
          </a:ln>
        </p:spPr>
      </p:pic>
      <p:pic>
        <p:nvPicPr>
          <p:cNvPr id="68" name="" descr=""/>
          <p:cNvPicPr/>
          <p:nvPr/>
        </p:nvPicPr>
        <p:blipFill>
          <a:blip r:embed="rId2"/>
          <a:stretch/>
        </p:blipFill>
        <p:spPr>
          <a:xfrm>
            <a:off x="2766960" y="1079640"/>
            <a:ext cx="4552920" cy="5394240"/>
          </a:xfrm>
          <a:prstGeom prst="rect">
            <a:avLst/>
          </a:prstGeom>
          <a:ln w="0">
            <a:noFill/>
          </a:ln>
        </p:spPr>
      </p:pic>
      <p:sp>
        <p:nvSpPr>
          <p:cNvPr id="69" name=""/>
          <p:cNvSpPr/>
          <p:nvPr/>
        </p:nvSpPr>
        <p:spPr>
          <a:xfrm>
            <a:off x="2766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bine Kastner et al. J Neurophysiol 2001;86:1398-1411</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ean signal changes and sensory suppression index.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5133960" y="6602400"/>
            <a:ext cx="4467240" cy="712800"/>
          </a:xfrm>
          <a:prstGeom prst="rect">
            <a:avLst/>
          </a:prstGeom>
          <a:ln w="0">
            <a:noFill/>
          </a:ln>
        </p:spPr>
      </p:pic>
      <p:pic>
        <p:nvPicPr>
          <p:cNvPr id="73" name="" descr=""/>
          <p:cNvPicPr/>
          <p:nvPr/>
        </p:nvPicPr>
        <p:blipFill>
          <a:blip r:embed="rId2"/>
          <a:stretch/>
        </p:blipFill>
        <p:spPr>
          <a:xfrm>
            <a:off x="739800" y="1488960"/>
            <a:ext cx="8604360" cy="4575240"/>
          </a:xfrm>
          <a:prstGeom prst="rect">
            <a:avLst/>
          </a:prstGeom>
          <a:ln w="0">
            <a:noFill/>
          </a:ln>
        </p:spPr>
      </p:pic>
      <p:sp>
        <p:nvSpPr>
          <p:cNvPr id="7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bine Kastner et al. J Neurophysiol 2001;86:1398-1411</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RF size hypothesis.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5133960" y="6602400"/>
            <a:ext cx="4467240" cy="712800"/>
          </a:xfrm>
          <a:prstGeom prst="rect">
            <a:avLst/>
          </a:prstGeom>
          <a:ln w="0">
            <a:noFill/>
          </a:ln>
        </p:spPr>
      </p:pic>
      <p:pic>
        <p:nvPicPr>
          <p:cNvPr id="78" name="" descr=""/>
          <p:cNvPicPr/>
          <p:nvPr/>
        </p:nvPicPr>
        <p:blipFill>
          <a:blip r:embed="rId2"/>
          <a:stretch/>
        </p:blipFill>
        <p:spPr>
          <a:xfrm>
            <a:off x="739800" y="1265400"/>
            <a:ext cx="8604360" cy="5021280"/>
          </a:xfrm>
          <a:prstGeom prst="rect">
            <a:avLst/>
          </a:prstGeom>
          <a:ln w="0">
            <a:noFill/>
          </a:ln>
        </p:spPr>
      </p:pic>
      <p:sp>
        <p:nvSpPr>
          <p:cNvPr id="7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bine Kastner et al. J Neurophysiol 2001;86:1398-1411</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ime series of fMRI signals in ventral visual areas with display sizes of 2 × 2° and 7 × 7°.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5133960" y="6602400"/>
            <a:ext cx="4467240" cy="712800"/>
          </a:xfrm>
          <a:prstGeom prst="rect">
            <a:avLst/>
          </a:prstGeom>
          <a:ln w="0">
            <a:noFill/>
          </a:ln>
        </p:spPr>
      </p:pic>
      <p:pic>
        <p:nvPicPr>
          <p:cNvPr id="83" name="" descr=""/>
          <p:cNvPicPr/>
          <p:nvPr/>
        </p:nvPicPr>
        <p:blipFill>
          <a:blip r:embed="rId2"/>
          <a:stretch/>
        </p:blipFill>
        <p:spPr>
          <a:xfrm>
            <a:off x="3116160" y="1079640"/>
            <a:ext cx="3851280" cy="5394240"/>
          </a:xfrm>
          <a:prstGeom prst="rect">
            <a:avLst/>
          </a:prstGeom>
          <a:ln w="0">
            <a:noFill/>
          </a:ln>
        </p:spPr>
      </p:pic>
      <p:sp>
        <p:nvSpPr>
          <p:cNvPr id="84" name=""/>
          <p:cNvSpPr/>
          <p:nvPr/>
        </p:nvSpPr>
        <p:spPr>
          <a:xfrm>
            <a:off x="31161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bine Kastner et al. J Neurophysiol 2001;86:1398-1411</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