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low plateau activation in chronic spinal rat motoneuron.A: depolarizing current pulse just at threshold to initiate a plateau caused a very slow plateau activation (5-s delay, at left arrow) followed by an afterdischarge.B: progressively larger current pulses produced a faster plateau activation (arrows). Same bias current (0.75 nA) in Aand B. Small arrows indicate time at which steady firing was achieved. Different time and voltage scales in A andB. C: delay in onset of firing (black symbols) and steady firing (white) as a function of current. Note that plateau activation was much faster for large pulses. D: initial (black) and steady state (white) firing frequency as a function of curr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lateaus triggered by brief dorsal root stimulation in chronic spinal rat motoneuron. A–C: voltage responses of motoneuron to brief stimulation of the Ca1 dorsal root (20 Hz, 5 × T) with various intracellular bias currents. Note the marked reduction in reflex duration as the cell was hyperpolarized and the effect of the voltage-dependent plateau was reduced. In C, a sufficient hyperpolarization was applied to eliminate the plateau, and there remained a 1-s response that outlasted the stimul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atomy of sacrocaudal spinal cord. A andC: transverse section through the S4 sacral spinal cord at 2 magnifications. Note the motoneurons within 100 μm of the surface (arrows). Caudal spinal cord sections are even smaller (200 μm radius at Ca1; not shown). B andD: lumbar spinal cord sections are much larger although the lumbar and sacral motoneurons are similar in size (arrows). For orientation, note the midline ventral artery at bottom left corner inA and D. Cut axons in the white matter are seen as black dots/flecks. The S4 section tore at midline during process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lateau in low-threshold motoneuron of chronic spinal rat.A: membrane potential and firing rate response to slow current ramp in low-threshold motoneuron of acute spinal rat. Note symmetry of response in relation to current, and thus lack of plateau. Scaled current (thin line) plotted with potential for reference. Tick marks denote 0 Hz. B: response to same current ramp in low-threshold motoneuron of chronicspinal rat. Note acceleration in potential (single arrow) and firing (double arrow), indicating the onset of a plateau (i.e.,I PIC). The plateau caused a sustained depolarization (ΔV) and discharge that continued until the current was reduced by ΔI (= −I PIC). C andD: frequency-current (F-I) plots forA and B. Black symbols, upward ramp; white, downward. Note the late acceleration in firing inD (chronic spinal), although overall lowerF-I slope than in acute spinal rat. E andF: responses to current pulses in acute and chronic spinal rats. The plateau caused self-sustained firing in the chronic spinal rat (F, plateau onset at asterisk). Recordings in DCC mode. Normal artificial cerebrospinal fluid (ACSF). Same scales onA, B, E, and 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lateau in high-threshold motoneuron of chronic spinal rat. Same format as Fig. 2, A–D but with motoneurons with higher recruitment threshold. A and C: motoneuron from acute spinal rat that showed no plateau and had firing rate adaptation. B: motoneuron from chronic spinal rat that had a plateau (initiated at arrow) that continued until the current was reduced by ΔI = −0.5 nA.D: note linear F-I plot for same cell with firing starting on the regression line at upward arr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of plateau properties of all motoneurons. A: estimation of plateau current I PIC from the average current at de-recruitment minus current at recruitment (ΔI = −I PIC). Mean value of ΔI for each acute (○) and chronic (●) spinal rat motoneuron is shown as a function of the recruitment current. - - -, respective linear regressions, although there is considerable scatter (r 2 = 0.2 and 0.2). B: summary of averageI PIC (−ΔI) for acute spinal rats, chronic spinal rats and acute spinal rats with serotonin (5-HT). *, significant differences from 0. C: average afterpotential for each motoneuron plotted as a function of its recruitment current (same symbols as A).D: ensemble average of afterpotentials; same format as in 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w-threshold plateau activation in chronic spinal rat motoneuron. Same format as Fig. 2. A: plateau and sustained firing evoked by slow ramp. Plateau was initiated before recruitment (at double arrow) and produced a large afterpotential (V) and an afterdischarge that continued until the current was reduced by ΔI = −1.4 nA. B: same cell with faster current ramp. Note the smaller afterpotential and afterdischarge (related to ΔI). In A andB, there was accelerated firing just after recruitment (left arrows; plateau further activated), although afterward the firing rate varied proportionally to current (see thin reference line plotted with rate) except near de-recruitment (at arrow in A).C: verification of plateau initiation before recruitment (left at arrow), by using a small current ramp that was reversed just before recruitment. Same cell in A–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s of 4 basic types of firing patterns. Instantaneous frequency-current (F-I) plots for upward (●) and downward (○) current ramps (0.5 nA/s). Aand B: two neurons from acute spinal rats.C–E: three neurons from a chronic spinal rats.F shows the response in E (—) overlayed with the response of same neuron with a smaller ramp (● and ○). Regression lines shown in A, C, andD. See text for detai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of motoneuron firing properties in acute and chronic spinal rats. A: distribution of motoneurons among the 4 types of firing profiles. Note that most cells had a linearF-I profile, both in acute (□) and chronic (■) spinal rats, although the latter also had self-sustained firing (type 3, denoted linear + self-sustained firing). Late acceleration in firing (type 4) and firing rate adaptation (type 2) were less common. B: mean firing rates at recruitment and de-recruitment. C: mean initial steady firing rates during slow ramps (see text). D: mean slopes ofF-I plots (regression line) in acute and chronic spinal rats. *, significant differe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oltage dependence of plateau in motoneuron of chronic spinal rat.A: plateau initiated by slow current ramp.B: same data as in A but on different scale to showing threshold for plateau onset and estimation ofI PIC.C–E: responses to current pulses without a bias current. Note delay in onset of firing and slow rising potential at arrow in D. F–H: responses to current pulses with a depolarizing bias current. Note plateau activation with afterpotential (F) and afterdischarges (G and H). Also, note the pause in firing after the pulse (G and H). Small suprathreshold pulses (H) were more effective than larger pulses (F) in evoking a plateau at a given bias current. Plateau stopped by hyperpolarizing pulses in Gand H. Same neuron for all panels. Same vertical scales in A and C–H. Same time scale inA and C–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lateau Potentials in Sacrocaudal Motoneurons of Chronic Spinal Rats, Recorded In Vitro</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David J. Bennett, Yunru Li, and Merek Siu</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6(4):1955-197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low plateau activation in chronic spinal rat motoneuron.A: depolarizing current pulse just at threshold to initiate a plateau caused a very slow plateau activation (5-s delay, at left arrow) followed by an afterdischarge.B: progressively larger current pul...</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3081240" y="1079640"/>
            <a:ext cx="3922920" cy="5394240"/>
          </a:xfrm>
          <a:prstGeom prst="rect">
            <a:avLst/>
          </a:prstGeom>
          <a:ln w="0">
            <a:noFill/>
          </a:ln>
        </p:spPr>
      </p:pic>
      <p:sp>
        <p:nvSpPr>
          <p:cNvPr id="89" name=""/>
          <p:cNvSpPr/>
          <p:nvPr/>
        </p:nvSpPr>
        <p:spPr>
          <a:xfrm>
            <a:off x="3081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lateaus triggered by brief dorsal root stimulation in chronic spinal rat motoneuron.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5133960" y="6602400"/>
            <a:ext cx="4467240" cy="712800"/>
          </a:xfrm>
          <a:prstGeom prst="rect">
            <a:avLst/>
          </a:prstGeom>
          <a:ln w="0">
            <a:noFill/>
          </a:ln>
        </p:spPr>
      </p:pic>
      <p:pic>
        <p:nvPicPr>
          <p:cNvPr id="93" name="" descr=""/>
          <p:cNvPicPr/>
          <p:nvPr/>
        </p:nvPicPr>
        <p:blipFill>
          <a:blip r:embed="rId2"/>
          <a:stretch/>
        </p:blipFill>
        <p:spPr>
          <a:xfrm>
            <a:off x="3287880" y="1079640"/>
            <a:ext cx="3509640" cy="5394240"/>
          </a:xfrm>
          <a:prstGeom prst="rect">
            <a:avLst/>
          </a:prstGeom>
          <a:ln w="0">
            <a:noFill/>
          </a:ln>
        </p:spPr>
      </p:pic>
      <p:sp>
        <p:nvSpPr>
          <p:cNvPr id="94" name=""/>
          <p:cNvSpPr/>
          <p:nvPr/>
        </p:nvSpPr>
        <p:spPr>
          <a:xfrm>
            <a:off x="32878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atomy of sacrocaudal spinal cord.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1623960" y="1079640"/>
            <a:ext cx="6837480" cy="5394240"/>
          </a:xfrm>
          <a:prstGeom prst="rect">
            <a:avLst/>
          </a:prstGeom>
          <a:ln w="0">
            <a:noFill/>
          </a:ln>
        </p:spPr>
      </p:pic>
      <p:sp>
        <p:nvSpPr>
          <p:cNvPr id="49" name=""/>
          <p:cNvSpPr/>
          <p:nvPr/>
        </p:nvSpPr>
        <p:spPr>
          <a:xfrm>
            <a:off x="1623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lateau in low-threshold motoneuron of chronic spinal rat.A: membrane potential and firing rate response to slow current ramp in low-threshold motoneuron of acute spinal ra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2786040" y="1079640"/>
            <a:ext cx="4513320" cy="5394240"/>
          </a:xfrm>
          <a:prstGeom prst="rect">
            <a:avLst/>
          </a:prstGeom>
          <a:ln w="0">
            <a:noFill/>
          </a:ln>
        </p:spPr>
      </p:pic>
      <p:sp>
        <p:nvSpPr>
          <p:cNvPr id="54" name=""/>
          <p:cNvSpPr/>
          <p:nvPr/>
        </p:nvSpPr>
        <p:spPr>
          <a:xfrm>
            <a:off x="2786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lateau in high-threshold motoneuron of chronic spinal rat.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154240" y="1079640"/>
            <a:ext cx="5776920" cy="5394240"/>
          </a:xfrm>
          <a:prstGeom prst="rect">
            <a:avLst/>
          </a:prstGeom>
          <a:ln w="0">
            <a:noFill/>
          </a:ln>
        </p:spPr>
      </p:pic>
      <p:sp>
        <p:nvSpPr>
          <p:cNvPr id="59" name=""/>
          <p:cNvSpPr/>
          <p:nvPr/>
        </p:nvSpPr>
        <p:spPr>
          <a:xfrm>
            <a:off x="2154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of plateau properties of all motoneuron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2335320" y="1079640"/>
            <a:ext cx="5416560" cy="5394240"/>
          </a:xfrm>
          <a:prstGeom prst="rect">
            <a:avLst/>
          </a:prstGeom>
          <a:ln w="0">
            <a:noFill/>
          </a:ln>
        </p:spPr>
      </p:pic>
      <p:sp>
        <p:nvSpPr>
          <p:cNvPr id="64" name=""/>
          <p:cNvSpPr/>
          <p:nvPr/>
        </p:nvSpPr>
        <p:spPr>
          <a:xfrm>
            <a:off x="2335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w-threshold plateau activation in chronic spinal rat motoneuron.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2494080" y="1079640"/>
            <a:ext cx="5099040" cy="5394240"/>
          </a:xfrm>
          <a:prstGeom prst="rect">
            <a:avLst/>
          </a:prstGeom>
          <a:ln w="0">
            <a:noFill/>
          </a:ln>
        </p:spPr>
      </p:pic>
      <p:sp>
        <p:nvSpPr>
          <p:cNvPr id="69" name=""/>
          <p:cNvSpPr/>
          <p:nvPr/>
        </p:nvSpPr>
        <p:spPr>
          <a:xfrm>
            <a:off x="2494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s of 4 basic types of firing pattern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2238480" y="1079640"/>
            <a:ext cx="5610240" cy="5394240"/>
          </a:xfrm>
          <a:prstGeom prst="rect">
            <a:avLst/>
          </a:prstGeom>
          <a:ln w="0">
            <a:noFill/>
          </a:ln>
        </p:spPr>
      </p:pic>
      <p:sp>
        <p:nvSpPr>
          <p:cNvPr id="74" name=""/>
          <p:cNvSpPr/>
          <p:nvPr/>
        </p:nvSpPr>
        <p:spPr>
          <a:xfrm>
            <a:off x="2238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of motoneuron firing properties in acute and chronic spinal rat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3414600" y="1079640"/>
            <a:ext cx="3254400" cy="5394240"/>
          </a:xfrm>
          <a:prstGeom prst="rect">
            <a:avLst/>
          </a:prstGeom>
          <a:ln w="0">
            <a:noFill/>
          </a:ln>
        </p:spPr>
      </p:pic>
      <p:sp>
        <p:nvSpPr>
          <p:cNvPr id="79" name=""/>
          <p:cNvSpPr/>
          <p:nvPr/>
        </p:nvSpPr>
        <p:spPr>
          <a:xfrm>
            <a:off x="3414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oltage dependence of plateau in motoneuron of chronic spinal rat.A: plateau initiated by slow current ramp.B: same data as in A but on different scale to showing threshold for plateau onset and estimation ofI PIC.C–E: responses to current pulses without a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3075120" y="1079640"/>
            <a:ext cx="3935160" cy="5394240"/>
          </a:xfrm>
          <a:prstGeom prst="rect">
            <a:avLst/>
          </a:prstGeom>
          <a:ln w="0">
            <a:noFill/>
          </a:ln>
        </p:spPr>
      </p:pic>
      <p:sp>
        <p:nvSpPr>
          <p:cNvPr id="84" name=""/>
          <p:cNvSpPr/>
          <p:nvPr/>
        </p:nvSpPr>
        <p:spPr>
          <a:xfrm>
            <a:off x="30751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vid J. Bennett et al. J Neurophysiol 2001;86:1955-197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