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ntrol (A and B) and 10.5 h postflight of STS-95 Shuttle (C and D) responses of toadfish utricular afferents to translational accelerations. A and C: afferent firing rate (in imp/s; top) is sinusoidally modulated to an applied sinusoidal change in linear position (LP, in cm;bottom). In both records, the animals were rotated counter-clockwise by 90° about the vertical axis resulting in a maximum rate increase for an acceleration directed rightward along the inter-labyrinth axis, ipsilateral to the recorded control afferent inA and in the opposite sense for the postflight afferent in C. B and D: averaged response (top) of records shown in A andC. Bottom: the averaged linear acceleration (LA re:g) of each stimulus. The complex-valued 1st harmonic of afferent response, represented as the dashed sinusoidal curve on the histogram, is divided by the complex-valued 1st harmonic of the stimulus, represented as the dashed sinusoidal curve on the linear acceleration trace, to determine the 1st harmonic sensitivity and phase of response. Ordinates in each panel are scaled equally to illustrate the primary finding: postflight afferents recorded shortly after return to Earth exhibit a profound hypersensitivity to translational accelerations. The amplitude of the applied 1.6-Hz stimulus in C and D was almost negligible (± 0.0026 g) but induced a firing rate modulation of around ±30 imp/s (or 11412 imp · s−1 · g −1). An average control afferent would exhibit only about ±4 imp/s modulation for this weak stimulus. The control response of the afferent shown inA and B is modeled as the dashed curve marked by the arrowhead in the histogram of 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rectional selectivity of control (A) and 11 h postflight of STS-95 Shuttle (B) toadfish utricular afferents to translational accelerations. A andB: sensitivity (solid symbols) and phase (open symbols) are plotted as a function of orientation angle (in °) of the animal. The small fish drawn between the sensitivity and phase plots graphically depict the animal's orientation as viewed from above for selected tests, and by convention forward motion of the test sled is denoted as an arrowhead. The individual response indicated by the star in panel A represents the response shown in Fig. 1,A and B. Forward acceleration out the animal's snout is given as 0°, and the animal is rotated counter-clockwise about the Earth's vertical axis and the designated angles follow a right-hand rule. For example, 90° is an acceleration directed rightward along the inter-labyrinth axis, 180° is a backward acceleration out the animal's tail, and 270° is an acceleration directed leftward along the inter-labyrinth axis. The response of utricular afferents follows a rectified, cosine function (dashed curves fit to the empirical data) with respect to orientation angle, indicating directional selectivity. A: control afferent.B: afferent recorded 11 h postflight of STS-95 shuttle. Afferent exhibited an enhanced sensitivity to applied linear accelerations and directional selectiv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ypersensitivity of toadfish utricular afferents to translational accelerations within the first day postflight of STS-90 and STS-95 shuttles. Unit sensitivity (in imp · s−1 g −1) of individual responses is plotted as a function of percent within each designated group. Groups are formed with respect to the time postflight, from the earliest time of 10–16 h for both fish (1 +2) of STS-95 (filled circles) to the latest time of 112–117 h for fish labeled 3 of STS-90 (inverted open triangle). Note that ∼60% of the afferents recorded in the 1st session (filled circles) reveal a marked sensitivity enhancement above control (black cro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eural Readaptation to Earth's Gravity Following Return From Spac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ichard Boyle, Allen F. Mensinger, Kaoru Yoshida, Shiro Usui, Anthony Intravaia, Timothy Tricas, and Stephen M. Highstei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6(4):2118-212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ntrol (A and B) and 10.5 h postflight of STS-95 Shuttle (C and D) responses of toadfish utricular afferents to translational acceleration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2978280" y="1079640"/>
            <a:ext cx="4130640" cy="5394240"/>
          </a:xfrm>
          <a:prstGeom prst="rect">
            <a:avLst/>
          </a:prstGeom>
          <a:ln w="0">
            <a:noFill/>
          </a:ln>
        </p:spPr>
      </p:pic>
      <p:sp>
        <p:nvSpPr>
          <p:cNvPr id="49" name=""/>
          <p:cNvSpPr/>
          <p:nvPr/>
        </p:nvSpPr>
        <p:spPr>
          <a:xfrm>
            <a:off x="29782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Boyle et al. J Neurophysiol 2001;86:2118-212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rectional selectivity of control (A) and 11 h postflight of STS-95 Shuttle (B) toadfish utricular afferents to translational acceleratio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833640" y="1079640"/>
            <a:ext cx="2417760" cy="5394240"/>
          </a:xfrm>
          <a:prstGeom prst="rect">
            <a:avLst/>
          </a:prstGeom>
          <a:ln w="0">
            <a:noFill/>
          </a:ln>
        </p:spPr>
      </p:pic>
      <p:sp>
        <p:nvSpPr>
          <p:cNvPr id="54" name=""/>
          <p:cNvSpPr/>
          <p:nvPr/>
        </p:nvSpPr>
        <p:spPr>
          <a:xfrm>
            <a:off x="3833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Boyle et al. J Neurophysiol 2001;86:2118-212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ypersensitivity of toadfish utricular afferents to translational accelerations within the first day postflight of STS-90 and STS-95 shuttl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3005280" y="1079640"/>
            <a:ext cx="4076640" cy="5394240"/>
          </a:xfrm>
          <a:prstGeom prst="rect">
            <a:avLst/>
          </a:prstGeom>
          <a:ln w="0">
            <a:noFill/>
          </a:ln>
        </p:spPr>
      </p:pic>
      <p:sp>
        <p:nvSpPr>
          <p:cNvPr id="59" name=""/>
          <p:cNvSpPr/>
          <p:nvPr/>
        </p:nvSpPr>
        <p:spPr>
          <a:xfrm>
            <a:off x="30052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ichard Boyle et al. J Neurophysiol 2001;86:2118-212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