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N-methyl-d-aspartate increased the electrochemical signal in the laterodorsal tegmental nucleus.A: bath superfusion of 100 μM NMDA (3 min) produced a reversible increase in the electrochemical signal measured in the LDT. Current from the electrochemical probe was integrated for 0.5 s.B: local NMDA application evoked a dose-dependent NO signal. NMDA (5 mM) was pressure ejected (at arrow) from a patch pipette positioned above the tissue near the LDT probe (∼200 μm). These applications produced long-lasting increases in the electrochemical signal that were reversible. Integration time was 5 s for this experiment. C: superfusion (49 min) with Ringer solution containing 1 mM l-NAME reversibly inhibited the NMDA-evoked electrochemical signal. Integration time was 5 s. Calibration bar in B applies toC.</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Histological verification that the nitric oxide-sensing probes were located among NADPH-diaphorase (NADPH-d) cells of the laterodorsal tegmental nucleus. A: tissue section (50 μm) from a slice containing the laterodorsal tegmental nucleus (LDT) after processing for NADPH-d histochemistry. ↓, a mechanical lesion made at the termination of the experiment to verify that the recording was made in the LDT. B: another tissue section from a different slice in which a nitric oxide (NO) probe was positioned in the LDT. The probes were sufficiently small that lesions were not present unless they were intentionally produced by mechanical disruption as inA. ↑, the location of electrolytic lesions made with the bipolar stimulating electrodes following an experiment. These represent the typical locations where stimulating electrodes were placed. LDTv, ventral LDT; DR, dorsal raphe nucleus; DT dorsal tegmental nucleu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Local electrical stimulation evoked an increase in the electrochemical signal in the laterodorsal tegmental nucleus. A: minimally detectable electrochemical responses resulting from constant-current pulse trains (10 pulses at 100 Hz) differing in amplitude. The small response is maximal with current pulses of 0.4- to 0.5-mA amplitude. B: an increase in the number of pulses in the train (to 100) evoked a larger increase in the electrochemical signal. C: the time course of the electrically evoked signal was biphasic and characterized by an early peak (single arrow) that was followed by a prolonged plateau (double arrow). Signals resulting from 2 stimuli that were separated by ∼10 min are superimposed. The total response lasted between 200 and 300 s. Integration time was 0.5 s. The stimulation artifact was limited to the initial 3–5 s as determined by identical stimuli delivered in the absence of tissue (inse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N G-nitro-l-arginine-methyl-ester (l-NAME) suppressed local electrical stimulation-evoked increases in NO. A: 3 control responses to 1-s trains of constant-current pulses delivered at 100 Hz. B: responses to identical stimulation following 40 and 48 min of tissue superfusion with the standard solution containing 1 mMl-NAME. Both the early and late phases of the response were potently suppressed. C: superimposition of representative traces on a shorter time scale before and after 48 min of superfusion with l-NAME. D: time course of l-NAME inhibition for 3 experiments from 3 different slices. The inhibition proceeded with a time course that was fit with exponentials (- - -) having time constants of ∼20 min in each case. Asymptotic inhibition was 100% in 2 cases and 77% in the 3rd cas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emoval of extracellular Ca2+ or superfusion of reduced hemoglobin reversibly suppressed the electrically evoked increases of NO in the laterodorsal tegmental nucleus. A,left: control changes in [NO] were evoked by electrical stimulation (100 Hz, 1 s) in a normal extracellular solution. Two responses are superimposed. A,middle: Ringer containing no added Ca2+ and 2.7 mM EGTA was superfused for 8 min to remove extracellular Ca2+. Electrical stimulation failed to evoke a detectable electrochemical response. A, right: superfusion with normal Ringer for 15 min restored the electrochemical response to control levels. These data indicate that the evoked NO production is generated in a Ca2+-dependent manner.B, left: in another slice, electrically evoked increases in [NO] were produced in normal Ringer (100 Hz, 1 s). B, middle: superfusion with 1 μM reduced hemoglobin (Hb) attenuated the electrically evoked signal by 50%. B, right: after superfusion with normal Ringer, most of the electrically evoked response recovered.C: Hb (10 μM) attenuated the electrochemical responses produced by the pressure ejection (25 ms; 10 psi) of NO (∼2 mM) into the slice. The NO-containing pipette was positioned with the tip at the mid-depth of the slice ∼200 μm away from the probe. This attenuation was not complete after 30 min, suggesting that Hb entered the slices slowly. pC, picocoulombs; Hb, chemically reduced hemoglobi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 name="PlaceHolder 1"/>
          <p:cNvSpPr>
            <a:spLocks noGrp="1"/>
          </p:cNvSpPr>
          <p:nvPr>
            <p:ph type="body"/>
          </p:nvPr>
        </p:nvSpPr>
        <p:spPr>
          <a:xfrm>
            <a:off x="1185840" y="4787640"/>
            <a:ext cx="5407200" cy="397188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apid delivery of reduced-hemoglobin into the slice rapidly attenuated exogenous NO transients and the electrically evoked electrochemical signal. Inset: diagram of the recording arrangement used in A. The pressure ejection pipettes were placed at mid-depth of the slice. The NO pipette was ∼200 μm and the Hb pipette was ∼100 μm from the sensor.A 1 : brief pressure-ejections (20, 40, and 60 ms; 10 psi) of authentic NO (∼2 mM) into the slice produced dose-dependent increases in the signal at the microprobe. ↑, times of NO application. Four pressure ejections (20, 40, 60, and 80 ms sequentially; 10 psi) of reduced hemoglobin (labeled Hb; 100 μM) produced small but rapid reductions in the baseline NO level and attenuated the subsequent response to NO (60 ms; 10 psi). ↓, time of Hb application. The same volume of Hb (80 ms; 10 psi) delivered while extracellular [NO] was elevated by a pulse of NO (60 ms; 10 psi), produced a large and rapid reduction in the [NO].A 2 : data fromA 1 on a faster time scale shows the rapid effect of Hb on the NO transient. Traces prior to Hb application are labeled 20, 40, and 60 ms. - - -, the first response evoked after the 4 Hb pulses in A 1 and was evoked by a 60-ms pulse of NO. Hb was ejected at the point-labeled Hb. The relative timing of the NO and Hb pulses is shown on the bottom trace. B 1 : electrical stimulation (90 pulses; 100 Hz) evoked increases in NO that were rapidly reduced by pressure ejecting Hb (200, 400, 1,000 ms sequentially; 10 psi) into the slice. Delivery of Hb into the slice also reduced the subsequent electrically evoked transient and the basal levels of NO measured. ↓, the time of Hb ejection. B 2 : data fromB 1 on a faster time scale to better show the speed of the Hb action on the electrically evoked NO transien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onotropic glutamate receptor antagonists did not suppress electrically evoked increases in NO. A: 3 sequential increases in NO produced by electrical stimulation with a 10-s stimulus train (10 Hz; control). B: this stimulus pattern evoked a long-lasting increase in NO production that was not blocked by 10 μM 6-cyano-7-nitroquinoxalene-2,3-dione (CNQX) and 50 μM 2-amino-5-phosphonopentanoic acid (APV). These concentrations of glutamate receptor antagonists abolish fast excitatory synaptic transmission to LDT cells. C: due to the artifact associated with this stimulus paradigm, only the late phase of the electrically evoked signal was compared. The dependence of this late phase on NO synthase (NOS) was verified by application of 1 mMl-NAME, which inhibited only this part of the signal (seeresults for further discuss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lectrical stimulation that evoked NO production also directly activated laterodorsal tegmental nucleus neurons. A: electrical stimulation with constant current pulses (0.1–0.8 mA, 200 μs) produced a short-latency (&lt;1 ms) field potential that was graded in amplitude and saturated near 0.75-mA current strength. The field had a half-width of 1.05 ms for supramaximal stimuli, suggesting it was a population spike. B: double pulses delivered at progressively shorter intervals resulted in a monotonic decrease in the field size as expected for the long-duration afterhyperpolarization of the NOS cells in LDT. C: the field could nevertheless follow 100-Hz stimulation, suggesting that it was not synaptically mediated. D: control field potentials (10 trials superimposed) elicited by pulse-pairs having a 10-ms interval (control). E: blocking glutamatergic excitatory postsynaptic potentials (EPSPs) with CNQX (CNQX, 10 μM) did not attenuated the evoked fields (10 superimposed), further indicating a nonsynaptic origin to the field. Intracellular recordings verified that local stimulation could directly activate LDT neurons.F: EPSPs were evoked at a latency of 3.6 ms for stimulus strengths of ≤0.7 mA. G: incrementing the stimulus strength to 0.8 mA caused a spike to be initiated at times preceding the EPSP (&lt;1.4-ms latency,) indicating that the stimulus directly activated the cel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uperfusion of l-arginine potentiated the electrical stimulation-evoked increases in NO production. A: electrical stimulation (1 s, 100 Hz) evoked a biphasic increase in [NO] that returned to baseline in &lt;200 s (control). Following superfusion of 1 mM l-Arg, identical stimulation evoked an enhanced plateau phase lasting 300–400 s (l-Arg). The early phase appeared unaffected by the presence of l-Arg. Application of 1 μM TTX in the presence of l-Arg abolished both the early and late electrochemical signals (right), indicating their dependence on activation of voltage-gated Na+ spikes. B: thel-Arg potentiation of the plateau phase was reversible. Following the washout of 1 mM l-Arg with normal Ringer, the plateau was reduced while the peak remained unchanged. Both the early phase and the late phase were sensitive to l-NAME (1 mM) as expect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Activity-Dependent Nitric Oxide Concentration Dynamics in the Laterodorsal Tegmental Nucleus In Vitro</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C. S. Leonard, E. K. Michaelis, and K. M. Mitchell</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JP - JN Physiol</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86(5):2159-2172</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November 1, 2001</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5133960" y="6602400"/>
            <a:ext cx="4467240" cy="712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N-methyl-d-aspartate increased the electrochemical signal in the laterodorsal tegmental nucleus.A: bath superfusion of 100 μM NMDA (3 min) produced a reversible increase in the electrochemical signal measured in the LDT. Current from the electrochemical pro...</a:t>
            </a:r>
            <a:endParaRPr b="0" lang="en-US" sz="1600" spc="-1" strike="noStrike">
              <a:solidFill>
                <a:srgbClr val="000000"/>
              </a:solidFill>
              <a:latin typeface="Times New Roman"/>
            </a:endParaRPr>
          </a:p>
        </p:txBody>
      </p:sp>
      <p:pic>
        <p:nvPicPr>
          <p:cNvPr id="87" name="" descr=""/>
          <p:cNvPicPr/>
          <p:nvPr/>
        </p:nvPicPr>
        <p:blipFill>
          <a:blip r:embed="rId1"/>
          <a:stretch/>
        </p:blipFill>
        <p:spPr>
          <a:xfrm>
            <a:off x="5133960" y="6602400"/>
            <a:ext cx="4467240" cy="712800"/>
          </a:xfrm>
          <a:prstGeom prst="rect">
            <a:avLst/>
          </a:prstGeom>
          <a:ln w="0">
            <a:noFill/>
          </a:ln>
        </p:spPr>
      </p:pic>
      <p:pic>
        <p:nvPicPr>
          <p:cNvPr id="88" name="" descr=""/>
          <p:cNvPicPr/>
          <p:nvPr/>
        </p:nvPicPr>
        <p:blipFill>
          <a:blip r:embed="rId2"/>
          <a:stretch/>
        </p:blipFill>
        <p:spPr>
          <a:xfrm>
            <a:off x="3370320" y="1079640"/>
            <a:ext cx="3344760" cy="5394240"/>
          </a:xfrm>
          <a:prstGeom prst="rect">
            <a:avLst/>
          </a:prstGeom>
          <a:ln w="0">
            <a:noFill/>
          </a:ln>
        </p:spPr>
      </p:pic>
      <p:sp>
        <p:nvSpPr>
          <p:cNvPr id="89" name=""/>
          <p:cNvSpPr/>
          <p:nvPr/>
        </p:nvSpPr>
        <p:spPr>
          <a:xfrm>
            <a:off x="33703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 S. Leonard et al. J Neurophysiol 2001;86:2159-2172</a:t>
            </a:r>
            <a:endParaRPr b="0" lang="en-US" sz="1200" spc="-1" strike="noStrike">
              <a:solidFill>
                <a:srgbClr val="000000"/>
              </a:solidFill>
              <a:latin typeface="Times New Roman"/>
            </a:endParaRPr>
          </a:p>
        </p:txBody>
      </p:sp>
      <p:sp>
        <p:nvSpPr>
          <p:cNvPr id="9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Histological verification that the nitric oxide-sensing probes were located among NADPH-diaphorase (NADPH-d) cells of the laterodorsal tegmental nucleu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5133960" y="6602400"/>
            <a:ext cx="4467240" cy="712800"/>
          </a:xfrm>
          <a:prstGeom prst="rect">
            <a:avLst/>
          </a:prstGeom>
          <a:ln w="0">
            <a:noFill/>
          </a:ln>
        </p:spPr>
      </p:pic>
      <p:pic>
        <p:nvPicPr>
          <p:cNvPr id="48" name="" descr=""/>
          <p:cNvPicPr/>
          <p:nvPr/>
        </p:nvPicPr>
        <p:blipFill>
          <a:blip r:embed="rId2"/>
          <a:stretch/>
        </p:blipFill>
        <p:spPr>
          <a:xfrm>
            <a:off x="739800" y="2022480"/>
            <a:ext cx="8604360" cy="3508200"/>
          </a:xfrm>
          <a:prstGeom prst="rect">
            <a:avLst/>
          </a:prstGeom>
          <a:ln w="0">
            <a:noFill/>
          </a:ln>
        </p:spPr>
      </p:pic>
      <p:sp>
        <p:nvSpPr>
          <p:cNvPr id="4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 S. Leonard et al. J Neurophysiol 2001;86:2159-2172</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Local electrical stimulation evoked an increase in the electrochemical signal in the laterodorsal tegmental nucleu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5133960" y="6602400"/>
            <a:ext cx="4467240" cy="712800"/>
          </a:xfrm>
          <a:prstGeom prst="rect">
            <a:avLst/>
          </a:prstGeom>
          <a:ln w="0">
            <a:noFill/>
          </a:ln>
        </p:spPr>
      </p:pic>
      <p:pic>
        <p:nvPicPr>
          <p:cNvPr id="53" name="" descr=""/>
          <p:cNvPicPr/>
          <p:nvPr/>
        </p:nvPicPr>
        <p:blipFill>
          <a:blip r:embed="rId2"/>
          <a:stretch/>
        </p:blipFill>
        <p:spPr>
          <a:xfrm>
            <a:off x="1290600" y="1079640"/>
            <a:ext cx="7504200" cy="5394240"/>
          </a:xfrm>
          <a:prstGeom prst="rect">
            <a:avLst/>
          </a:prstGeom>
          <a:ln w="0">
            <a:noFill/>
          </a:ln>
        </p:spPr>
      </p:pic>
      <p:sp>
        <p:nvSpPr>
          <p:cNvPr id="54" name=""/>
          <p:cNvSpPr/>
          <p:nvPr/>
        </p:nvSpPr>
        <p:spPr>
          <a:xfrm>
            <a:off x="12906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 S. Leonard et al. J Neurophysiol 2001;86:2159-2172</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N G-nitro-l-arginine-methyl-ester (l-NAME) suppressed local electrical stimulation-evoked increases in NO. A: 3 control responses to 1-s trains of constant-current pulses delivered at 100 Hz. B: responses to identical stimulation following 40 and 48 min of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5133960" y="6602400"/>
            <a:ext cx="4467240" cy="712800"/>
          </a:xfrm>
          <a:prstGeom prst="rect">
            <a:avLst/>
          </a:prstGeom>
          <a:ln w="0">
            <a:noFill/>
          </a:ln>
        </p:spPr>
      </p:pic>
      <p:pic>
        <p:nvPicPr>
          <p:cNvPr id="58" name="" descr=""/>
          <p:cNvPicPr/>
          <p:nvPr/>
        </p:nvPicPr>
        <p:blipFill>
          <a:blip r:embed="rId2"/>
          <a:stretch/>
        </p:blipFill>
        <p:spPr>
          <a:xfrm>
            <a:off x="2127240" y="1079640"/>
            <a:ext cx="5832360" cy="5394240"/>
          </a:xfrm>
          <a:prstGeom prst="rect">
            <a:avLst/>
          </a:prstGeom>
          <a:ln w="0">
            <a:noFill/>
          </a:ln>
        </p:spPr>
      </p:pic>
      <p:sp>
        <p:nvSpPr>
          <p:cNvPr id="59" name=""/>
          <p:cNvSpPr/>
          <p:nvPr/>
        </p:nvSpPr>
        <p:spPr>
          <a:xfrm>
            <a:off x="21272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 S. Leonard et al. J Neurophysiol 2001;86:2159-2172</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emoval of extracellular Ca2+ or superfusion of reduced hemoglobin reversibly suppressed the electrically evoked increases of NO in the laterodorsal tegmental nucleus.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5133960" y="6602400"/>
            <a:ext cx="4467240" cy="712800"/>
          </a:xfrm>
          <a:prstGeom prst="rect">
            <a:avLst/>
          </a:prstGeom>
          <a:ln w="0">
            <a:noFill/>
          </a:ln>
        </p:spPr>
      </p:pic>
      <p:pic>
        <p:nvPicPr>
          <p:cNvPr id="63" name="" descr=""/>
          <p:cNvPicPr/>
          <p:nvPr/>
        </p:nvPicPr>
        <p:blipFill>
          <a:blip r:embed="rId2"/>
          <a:stretch/>
        </p:blipFill>
        <p:spPr>
          <a:xfrm>
            <a:off x="1720800" y="1079640"/>
            <a:ext cx="6642000" cy="5394240"/>
          </a:xfrm>
          <a:prstGeom prst="rect">
            <a:avLst/>
          </a:prstGeom>
          <a:ln w="0">
            <a:noFill/>
          </a:ln>
        </p:spPr>
      </p:pic>
      <p:sp>
        <p:nvSpPr>
          <p:cNvPr id="64" name=""/>
          <p:cNvSpPr/>
          <p:nvPr/>
        </p:nvSpPr>
        <p:spPr>
          <a:xfrm>
            <a:off x="1720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 S. Leonard et al. J Neurophysiol 2001;86:2159-2172</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apid delivery of reduced-hemoglobin into the slice rapidly attenuated exogenous NO transients and the electrically evoked electrochemical signal.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5133960" y="6602400"/>
            <a:ext cx="4467240" cy="712800"/>
          </a:xfrm>
          <a:prstGeom prst="rect">
            <a:avLst/>
          </a:prstGeom>
          <a:ln w="0">
            <a:noFill/>
          </a:ln>
        </p:spPr>
      </p:pic>
      <p:pic>
        <p:nvPicPr>
          <p:cNvPr id="68" name="" descr=""/>
          <p:cNvPicPr/>
          <p:nvPr/>
        </p:nvPicPr>
        <p:blipFill>
          <a:blip r:embed="rId2"/>
          <a:stretch/>
        </p:blipFill>
        <p:spPr>
          <a:xfrm>
            <a:off x="2068560" y="1079640"/>
            <a:ext cx="5946840" cy="5394240"/>
          </a:xfrm>
          <a:prstGeom prst="rect">
            <a:avLst/>
          </a:prstGeom>
          <a:ln w="0">
            <a:noFill/>
          </a:ln>
        </p:spPr>
      </p:pic>
      <p:sp>
        <p:nvSpPr>
          <p:cNvPr id="69" name=""/>
          <p:cNvSpPr/>
          <p:nvPr/>
        </p:nvSpPr>
        <p:spPr>
          <a:xfrm>
            <a:off x="20685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 S. Leonard et al. J Neurophysiol 2001;86:2159-2172</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onotropic glutamate receptor antagonists did not suppress electrically evoked increases in NO. A: 3 sequential increases in NO produced by electrical stimulation with a 10-s stimulus train (10 Hz; control).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5133960" y="6602400"/>
            <a:ext cx="4467240" cy="712800"/>
          </a:xfrm>
          <a:prstGeom prst="rect">
            <a:avLst/>
          </a:prstGeom>
          <a:ln w="0">
            <a:noFill/>
          </a:ln>
        </p:spPr>
      </p:pic>
      <p:pic>
        <p:nvPicPr>
          <p:cNvPr id="73" name="" descr=""/>
          <p:cNvPicPr/>
          <p:nvPr/>
        </p:nvPicPr>
        <p:blipFill>
          <a:blip r:embed="rId2"/>
          <a:stretch/>
        </p:blipFill>
        <p:spPr>
          <a:xfrm>
            <a:off x="3835440" y="1079640"/>
            <a:ext cx="2415960" cy="5394240"/>
          </a:xfrm>
          <a:prstGeom prst="rect">
            <a:avLst/>
          </a:prstGeom>
          <a:ln w="0">
            <a:noFill/>
          </a:ln>
        </p:spPr>
      </p:pic>
      <p:sp>
        <p:nvSpPr>
          <p:cNvPr id="74" name=""/>
          <p:cNvSpPr/>
          <p:nvPr/>
        </p:nvSpPr>
        <p:spPr>
          <a:xfrm>
            <a:off x="38354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 S. Leonard et al. J Neurophysiol 2001;86:2159-2172</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lectrical stimulation that evoked NO production also directly activated laterodorsal tegmental nucleus neurons.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5133960" y="6602400"/>
            <a:ext cx="4467240" cy="712800"/>
          </a:xfrm>
          <a:prstGeom prst="rect">
            <a:avLst/>
          </a:prstGeom>
          <a:ln w="0">
            <a:noFill/>
          </a:ln>
        </p:spPr>
      </p:pic>
      <p:pic>
        <p:nvPicPr>
          <p:cNvPr id="78" name="" descr=""/>
          <p:cNvPicPr/>
          <p:nvPr/>
        </p:nvPicPr>
        <p:blipFill>
          <a:blip r:embed="rId2"/>
          <a:stretch/>
        </p:blipFill>
        <p:spPr>
          <a:xfrm>
            <a:off x="2438280" y="1079640"/>
            <a:ext cx="5208840" cy="5394240"/>
          </a:xfrm>
          <a:prstGeom prst="rect">
            <a:avLst/>
          </a:prstGeom>
          <a:ln w="0">
            <a:noFill/>
          </a:ln>
        </p:spPr>
      </p:pic>
      <p:sp>
        <p:nvSpPr>
          <p:cNvPr id="79" name=""/>
          <p:cNvSpPr/>
          <p:nvPr/>
        </p:nvSpPr>
        <p:spPr>
          <a:xfrm>
            <a:off x="24382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 S. Leonard et al. J Neurophysiol 2001;86:2159-2172</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uperfusion of l-arginine potentiated the electrical stimulation-evoked increases in NO production.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5133960" y="6602400"/>
            <a:ext cx="4467240" cy="712800"/>
          </a:xfrm>
          <a:prstGeom prst="rect">
            <a:avLst/>
          </a:prstGeom>
          <a:ln w="0">
            <a:noFill/>
          </a:ln>
        </p:spPr>
      </p:pic>
      <p:pic>
        <p:nvPicPr>
          <p:cNvPr id="83" name="" descr=""/>
          <p:cNvPicPr/>
          <p:nvPr/>
        </p:nvPicPr>
        <p:blipFill>
          <a:blip r:embed="rId2"/>
          <a:stretch/>
        </p:blipFill>
        <p:spPr>
          <a:xfrm>
            <a:off x="1908000" y="1079640"/>
            <a:ext cx="6269040" cy="5394240"/>
          </a:xfrm>
          <a:prstGeom prst="rect">
            <a:avLst/>
          </a:prstGeom>
          <a:ln w="0">
            <a:noFill/>
          </a:ln>
        </p:spPr>
      </p:pic>
      <p:sp>
        <p:nvSpPr>
          <p:cNvPr id="84" name=""/>
          <p:cNvSpPr/>
          <p:nvPr/>
        </p:nvSpPr>
        <p:spPr>
          <a:xfrm>
            <a:off x="19080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C. S. Leonard et al. J Neurophysiol 2001;86:2159-2172</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