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ree representative neurons exhibiting similar responses to surface-luminance tests, but differing responses to surround-luminance tests. Top row: response profiles generated in response to surface-luminance tests (formatted as in Fig. 4, Aand B). Bottom row: response profiles generated in response to surround-luminance tests (formatted as in Fig.7 C). The thin horizontal line indicates mean ongoing activity. The vertical broken line indicates luminance of the background. The vertical dotted line indicates luminance of the surface stimulus. Solid regression lines indicate significant correlations (P &lt; 0.05, Spearman's rank correlation), and dashed regression lines indicate nonsignificant correlations (P ≥ 0.05). All three neurons exhibited stronger responses to higher luminances in the surface-luminance test (bright-type). However, the activity of cell A was essentially unchanged during the surround-luminance test; the activity of cell B declined with increasing surround luminance; and the activity of cell C increased with increasing surround luminance. Using the criterion described in the text, these cells were respectively classified as type I, type II, and type III.</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stributions of the slopes of the response profiles generated by surround-luminance tests. A: the activity of bright-type neurons. B: the activity of dark-type neurons (determined in the surface-luminance test). In each graph, the abscissa indicates the slope obtained using stimuli darker than the background, the ordinate stimuli brighter than the background. The graph format is the same as in Fig. 5 A. Each symbol represents a cell. Cells in the bottom left region in A andtop right region in B delimited by broken lines are classified as type II; those in the top right region in A and bottom left region in B as type III. Type I neurons are not shown. Five gray diamonds in the top left andbottom right regions represent cells unclassified as either type. See text for the details of the classific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representative example of neurons whose activity varied in response to the luminance of a large uniform surface (surface stimulus).A: schematic drawings of the entire display (width, 34°; height, 26°) as it appears during the stimulus presentation period. The middle square is the surface stimulus, which completely covers the receptive field (RF). The size and location of the RF of the recorded neuron is indicated by an ellipse, which was not actually presented on the display. In this and the following figures, except Fig. 9, all items, including the outline of the display, the stimuli, and the RFs are drawn proportionally. The luminances of the surface stimuli are indicated; background luminance was 3 cd/m2 under each condition. In the middle panel, the stimulus had the same luminance as the background and was thus invisible. A cross indicates the location of the fixation point. B: rastergram of spike activities around the stimulus presentation period. Short vertical lines indicate the timing of spike discharge. Each row corresponds to a different trial. Long vertical lines indicate the onset of the stimulus presentation. C: peristimulus time histogram (PSTH) of spike activity; binwidth is 100 ms. The upward deflection of the line at the bottom of each panel indicates the stimulus presentation period. Each histogram begins at −480 ms from stimulus onset. During the early part of the response, there was no clear difference between the responses elicited by dark and bright stimuli, whereas later the responses differed markedly. Only activities of single neurons are exemplified in this and the following figur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ime courses of the responses to surface stimuli with various luminances. A: activities of the neuron shown in Fig. 1are depicted as spike density plots smoothed with a gaussian filter (ς = 50 ms). The abscissa denotes the time aligned at the stimulus onset, the ordinate spike density. Different colors represent the surface luminances indicated in the inset.B: discharge rates (means ± SD) early on (20–120 ms after stimulus onset, thin line) and later (520–1,220 ms after stimulus onset, thick line) during stimulus presentation. These periods are marked as gray in A. The abscissa is the luminance of the surface stimulus. The thin, horizontal line indicates the strength of the ongoing activity (0–500 ms before stimulus presentation). The vertical broken line indicates the luminance of the background. In this particular neuron, the response profile was V-shaped early on, with a valley at the same luminance as the background; later, activity increased monotonically with luminan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ercentage of different response profiles across the entire population of 115 neurons tested in the surface luminance test in every 100 ms time windows during stimulus presentation and at the offset of the stimulus. Solid, gray and hatched parts represent V-shaped, monotonic and other profiles, respectivel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wo representative response profiles in the later period obtained from surface-luminance tests. In A and B, the abscissa indicates the luminance of the surface stimulus, the ordinate the firing rate (means ± SD). Straight lines in each graph are the linear regression lines calculated from the responses; theleft half of each plot was obtained using stimuli darker than the background, the right half using stimuli brighter than the background. Responses to the stimulus having the same luminance as the background were included in the linear regression for both the darker and brighter sides. The vertical broken line indicates the luminance of the background. The thin, horizontal line indicates the ongoing activity before the stimulus presentation.A: neuron showing monotonic increases in activity with increasing surface luminance. B: neuron showing a V-shaped response profile; again note that the valley is at the same luminance as the background. C: schematic illustration of a set of slopes in the response profile that will be used to classify neurons, as shown in Fig. 5. a and b represent slopes of the regression lines for the dark and bright stimuli, respectivel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stribution of the slopes of the response profiles calculated as in Fig. 4 C. A: the relationship between the slopes of the response profiles generated using dark stimuli (abscissa, cf. a in Fig. 4 C) and those generated using bright stimuli (ordinate, cf. b in Fig. 4 C). Based on the pairs of slope values, neurons were classified into 3 groups: square symbols represent neurons classified as dark-type, diamonds bright-type, and circles those with V-shaped responses. Open and filled symbols distinguish different criteria used to classify neurons (see text for details). Neurons marked with a, b, or c in A correspond to a, b, and c in B, respectively. Neurons marked with d or e correspond to those shown in Fig. 4, A andB, respectively. B: response profiles of 3 neurons, formatted as in Fig. 4, A and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sults of surface-luminance tests conducted using 2 different background luminances. Top and bottom: schematic drawings of the entire display during stimulus presentation. The figure format is the same as in Fig. 1 A. Thetop row depicts the bright background condition (30 cd/m2); the bottom row the dark background condition (1 cd/m2). Middle: response profiles in the later period generated using the indicated backgrounds. The abscissa is the luminance of the surface stimulus, the ordinate the discharge rate. In this example, increasing background luminance caused the responses to be shifted toward the righ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timuli and responses of a representative neuron recorded during a surround-luminance test. A: schematic drawing of the display during stimulus presentation. The cell's RF is superimposed as an ellipse. The square surrounding the RF is the surface stimulus. The frame around the surface stimulus is the surround stimulus. The luminance of the surround stimulus was varied, while that of the surface stimulus was kept constant. B: spike density plots of the responses. Different colors represent the surround luminances indicated in the inset. Other formats are the same as in Fig. 2 A. C: early (●) and late (○) response profiles. The vertical dotted line indicates the luminance of the surface stimulus (1 cd/m2). The vertical broken line indicates the luminance of the background (10 cd/m2 in this case). Other formats are the same as in Fig.2 B. In this example, late neuronal activity increased monotonically with increasing surround luminance. In contrast, the early response profile is rather fla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ercentage of different types of effects from the surround across the entire population of 81 neurons tested in the surround-luminance test in every 100-ms time window during stimulus presentation and at the offset of the stimulus. Solid, gray, and hatched parts represent constant, monotonic, and other profiles, respective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Neural Representation of the Luminance and Brightness of a Uniform Surface in the Macaque Primary Visual Cortex</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Masaharu Kinoshita, and Hidehiko Komatsu</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JN Phys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86(5):2559-2570</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November 1,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ree representative neurons exhibiting similar responses to surface-luminance tests, but differing responses to surround-luminance tests.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5133960" y="6602400"/>
            <a:ext cx="4467240" cy="712800"/>
          </a:xfrm>
          <a:prstGeom prst="rect">
            <a:avLst/>
          </a:prstGeom>
          <a:ln w="0">
            <a:noFill/>
          </a:ln>
        </p:spPr>
      </p:pic>
      <p:pic>
        <p:nvPicPr>
          <p:cNvPr id="88" name="" descr=""/>
          <p:cNvPicPr/>
          <p:nvPr/>
        </p:nvPicPr>
        <p:blipFill>
          <a:blip r:embed="rId2"/>
          <a:stretch/>
        </p:blipFill>
        <p:spPr>
          <a:xfrm>
            <a:off x="1689120" y="1079640"/>
            <a:ext cx="6707160" cy="5394240"/>
          </a:xfrm>
          <a:prstGeom prst="rect">
            <a:avLst/>
          </a:prstGeom>
          <a:ln w="0">
            <a:noFill/>
          </a:ln>
        </p:spPr>
      </p:pic>
      <p:sp>
        <p:nvSpPr>
          <p:cNvPr id="89" name=""/>
          <p:cNvSpPr/>
          <p:nvPr/>
        </p:nvSpPr>
        <p:spPr>
          <a:xfrm>
            <a:off x="16891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saharu Kinoshita, and Hidehiko Komatsu J Neurophysiol 2001;86:2559-2570</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stributions of the slopes of the response profiles generated by surround-luminance tests. </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5133960" y="6602400"/>
            <a:ext cx="4467240" cy="712800"/>
          </a:xfrm>
          <a:prstGeom prst="rect">
            <a:avLst/>
          </a:prstGeom>
          <a:ln w="0">
            <a:noFill/>
          </a:ln>
        </p:spPr>
      </p:pic>
      <p:pic>
        <p:nvPicPr>
          <p:cNvPr id="93" name="" descr=""/>
          <p:cNvPicPr/>
          <p:nvPr/>
        </p:nvPicPr>
        <p:blipFill>
          <a:blip r:embed="rId2"/>
          <a:stretch/>
        </p:blipFill>
        <p:spPr>
          <a:xfrm>
            <a:off x="739800" y="1508040"/>
            <a:ext cx="8604360" cy="4537080"/>
          </a:xfrm>
          <a:prstGeom prst="rect">
            <a:avLst/>
          </a:prstGeom>
          <a:ln w="0">
            <a:noFill/>
          </a:ln>
        </p:spPr>
      </p:pic>
      <p:sp>
        <p:nvSpPr>
          <p:cNvPr id="9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saharu Kinoshita, and Hidehiko Komatsu J Neurophysiol 2001;86:2559-2570</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representative example of neurons whose activity varied in response to the luminance of a large uniform surface (surface stimulus).A: schematic drawings of the entire display (width, 34°; height, 26°) as it appears during the stimulus presentation period.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949320" y="1079640"/>
            <a:ext cx="8188200" cy="5394240"/>
          </a:xfrm>
          <a:prstGeom prst="rect">
            <a:avLst/>
          </a:prstGeom>
          <a:ln w="0">
            <a:noFill/>
          </a:ln>
        </p:spPr>
      </p:pic>
      <p:sp>
        <p:nvSpPr>
          <p:cNvPr id="49" name=""/>
          <p:cNvSpPr/>
          <p:nvPr/>
        </p:nvSpPr>
        <p:spPr>
          <a:xfrm>
            <a:off x="9493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saharu Kinoshita, and Hidehiko Komatsu J Neurophysiol 2001;86:2559-2570</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ime courses of the responses to surface stimuli with various luminance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3146400" y="1079640"/>
            <a:ext cx="3792600" cy="5394240"/>
          </a:xfrm>
          <a:prstGeom prst="rect">
            <a:avLst/>
          </a:prstGeom>
          <a:ln w="0">
            <a:noFill/>
          </a:ln>
        </p:spPr>
      </p:pic>
      <p:sp>
        <p:nvSpPr>
          <p:cNvPr id="54" name=""/>
          <p:cNvSpPr/>
          <p:nvPr/>
        </p:nvSpPr>
        <p:spPr>
          <a:xfrm>
            <a:off x="31464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saharu Kinoshita, and Hidehiko Komatsu J Neurophysiol 2001;86:2559-2570</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ercentage of different response profiles across the entire population of 115 neurons tested in the surface luminance test in every 100 ms time windows during stimulus presentation and at the offset of the stimulu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1612800" y="1079640"/>
            <a:ext cx="6858000" cy="5394240"/>
          </a:xfrm>
          <a:prstGeom prst="rect">
            <a:avLst/>
          </a:prstGeom>
          <a:ln w="0">
            <a:noFill/>
          </a:ln>
        </p:spPr>
      </p:pic>
      <p:sp>
        <p:nvSpPr>
          <p:cNvPr id="59" name=""/>
          <p:cNvSpPr/>
          <p:nvPr/>
        </p:nvSpPr>
        <p:spPr>
          <a:xfrm>
            <a:off x="1612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saharu Kinoshita, and Hidehiko Komatsu J Neurophysiol 2001;86:2559-2570</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wo representative response profiles in the later period obtained from surface-luminance test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5133960" y="6602400"/>
            <a:ext cx="4467240" cy="712800"/>
          </a:xfrm>
          <a:prstGeom prst="rect">
            <a:avLst/>
          </a:prstGeom>
          <a:ln w="0">
            <a:noFill/>
          </a:ln>
        </p:spPr>
      </p:pic>
      <p:pic>
        <p:nvPicPr>
          <p:cNvPr id="63" name="" descr=""/>
          <p:cNvPicPr/>
          <p:nvPr/>
        </p:nvPicPr>
        <p:blipFill>
          <a:blip r:embed="rId2"/>
          <a:stretch/>
        </p:blipFill>
        <p:spPr>
          <a:xfrm>
            <a:off x="1778040" y="1079640"/>
            <a:ext cx="6530760" cy="5394240"/>
          </a:xfrm>
          <a:prstGeom prst="rect">
            <a:avLst/>
          </a:prstGeom>
          <a:ln w="0">
            <a:noFill/>
          </a:ln>
        </p:spPr>
      </p:pic>
      <p:sp>
        <p:nvSpPr>
          <p:cNvPr id="64" name=""/>
          <p:cNvSpPr/>
          <p:nvPr/>
        </p:nvSpPr>
        <p:spPr>
          <a:xfrm>
            <a:off x="17780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saharu Kinoshita, and Hidehiko Komatsu J Neurophysiol 2001;86:2559-2570</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stribution of the slopes of the response profiles calculated as in Fig. 4 C. A: the relationship between the slopes of the response profiles generated using dark stimuli (abscissa, cf. a in Fig. 4 C) and those generated using bright stimuli (ordinate, cf....</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5133960" y="6602400"/>
            <a:ext cx="4467240" cy="712800"/>
          </a:xfrm>
          <a:prstGeom prst="rect">
            <a:avLst/>
          </a:prstGeom>
          <a:ln w="0">
            <a:noFill/>
          </a:ln>
        </p:spPr>
      </p:pic>
      <p:pic>
        <p:nvPicPr>
          <p:cNvPr id="68" name="" descr=""/>
          <p:cNvPicPr/>
          <p:nvPr/>
        </p:nvPicPr>
        <p:blipFill>
          <a:blip r:embed="rId2"/>
          <a:stretch/>
        </p:blipFill>
        <p:spPr>
          <a:xfrm>
            <a:off x="1477800" y="1079640"/>
            <a:ext cx="7129800" cy="5394240"/>
          </a:xfrm>
          <a:prstGeom prst="rect">
            <a:avLst/>
          </a:prstGeom>
          <a:ln w="0">
            <a:noFill/>
          </a:ln>
        </p:spPr>
      </p:pic>
      <p:sp>
        <p:nvSpPr>
          <p:cNvPr id="69" name=""/>
          <p:cNvSpPr/>
          <p:nvPr/>
        </p:nvSpPr>
        <p:spPr>
          <a:xfrm>
            <a:off x="1477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saharu Kinoshita, and Hidehiko Komatsu J Neurophysiol 2001;86:2559-2570</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sults of surface-luminance tests conducted using 2 different background luminance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5133960" y="6602400"/>
            <a:ext cx="4467240" cy="712800"/>
          </a:xfrm>
          <a:prstGeom prst="rect">
            <a:avLst/>
          </a:prstGeom>
          <a:ln w="0">
            <a:noFill/>
          </a:ln>
        </p:spPr>
      </p:pic>
      <p:pic>
        <p:nvPicPr>
          <p:cNvPr id="73" name="" descr=""/>
          <p:cNvPicPr/>
          <p:nvPr/>
        </p:nvPicPr>
        <p:blipFill>
          <a:blip r:embed="rId2"/>
          <a:stretch/>
        </p:blipFill>
        <p:spPr>
          <a:xfrm>
            <a:off x="2908440" y="1079640"/>
            <a:ext cx="4267080" cy="5394240"/>
          </a:xfrm>
          <a:prstGeom prst="rect">
            <a:avLst/>
          </a:prstGeom>
          <a:ln w="0">
            <a:noFill/>
          </a:ln>
        </p:spPr>
      </p:pic>
      <p:sp>
        <p:nvSpPr>
          <p:cNvPr id="74" name=""/>
          <p:cNvSpPr/>
          <p:nvPr/>
        </p:nvSpPr>
        <p:spPr>
          <a:xfrm>
            <a:off x="290844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saharu Kinoshita, and Hidehiko Komatsu J Neurophysiol 2001;86:2559-2570</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timuli and responses of a representative neuron recorded during a surround-luminance test.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5133960" y="6602400"/>
            <a:ext cx="4467240" cy="712800"/>
          </a:xfrm>
          <a:prstGeom prst="rect">
            <a:avLst/>
          </a:prstGeom>
          <a:ln w="0">
            <a:noFill/>
          </a:ln>
        </p:spPr>
      </p:pic>
      <p:pic>
        <p:nvPicPr>
          <p:cNvPr id="78" name="" descr=""/>
          <p:cNvPicPr/>
          <p:nvPr/>
        </p:nvPicPr>
        <p:blipFill>
          <a:blip r:embed="rId2"/>
          <a:stretch/>
        </p:blipFill>
        <p:spPr>
          <a:xfrm>
            <a:off x="3468600" y="1079640"/>
            <a:ext cx="3148200" cy="5394240"/>
          </a:xfrm>
          <a:prstGeom prst="rect">
            <a:avLst/>
          </a:prstGeom>
          <a:ln w="0">
            <a:noFill/>
          </a:ln>
        </p:spPr>
      </p:pic>
      <p:sp>
        <p:nvSpPr>
          <p:cNvPr id="79" name=""/>
          <p:cNvSpPr/>
          <p:nvPr/>
        </p:nvSpPr>
        <p:spPr>
          <a:xfrm>
            <a:off x="34686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saharu Kinoshita, and Hidehiko Komatsu J Neurophysiol 2001;86:2559-2570</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ercentage of different types of effects from the surround across the entire population of 81 neurons tested in the surround-luminance test in every 100-ms time window during stimulus presentation and at the offset of the stimulus.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5133960" y="6602400"/>
            <a:ext cx="4467240" cy="712800"/>
          </a:xfrm>
          <a:prstGeom prst="rect">
            <a:avLst/>
          </a:prstGeom>
          <a:ln w="0">
            <a:noFill/>
          </a:ln>
        </p:spPr>
      </p:pic>
      <p:pic>
        <p:nvPicPr>
          <p:cNvPr id="83" name="" descr=""/>
          <p:cNvPicPr/>
          <p:nvPr/>
        </p:nvPicPr>
        <p:blipFill>
          <a:blip r:embed="rId2"/>
          <a:stretch/>
        </p:blipFill>
        <p:spPr>
          <a:xfrm>
            <a:off x="1596960" y="1079640"/>
            <a:ext cx="6892920" cy="5394240"/>
          </a:xfrm>
          <a:prstGeom prst="rect">
            <a:avLst/>
          </a:prstGeom>
          <a:ln w="0">
            <a:noFill/>
          </a:ln>
        </p:spPr>
      </p:pic>
      <p:sp>
        <p:nvSpPr>
          <p:cNvPr id="84" name=""/>
          <p:cNvSpPr/>
          <p:nvPr/>
        </p:nvSpPr>
        <p:spPr>
          <a:xfrm>
            <a:off x="15969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saharu Kinoshita, and Hidehiko Komatsu J Neurophysiol 2001;86:2559-2570</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