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 of increasing Mg2+ concentration on BR and BD. Raising Mg2+ from the basal 0.8 mM under NMDAONLY conditions caused a progressive decrease in burst rates without affecting burst durations until 4–5 mM Mg2+. A catastrophic loss of all activity occurred at 6 mM Mg2+. Points represent the minute means of 14 channels under each pharmacological condi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Uncoupling of presynaptic influences by bath application of 50 μM NMDA destroys the periodic nature of NMDAONLYoscillations. A: 25 s of activity of 16 neurons under NMDAONLY conditions. B: the period of the NMDAONLY burst oscillation is reflected in the large peak in the power spectra at 0.34 Hz (2.94 s period) calculated for a sample of 6 of the neurons shown in A. C: the same 16 neurons 5 min after 50 μM NMDA was added to the experimental bath. The periodic and synchronized nature of the NMDAONLY activity is destroyed. D: power spectra calculated for the same neurons as in B after NMDA addi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pinal cord network grown on 64-electrode array 95 days after seeding. The indium tin oxide conductors are 10 μm wide. Electrode spacing is 40 μm, vertical spacing between rows is 200 μm. Insets: close-ups of neurons within the network. Bars: 80 μm. Loots-modified Bodian stain. Primary cultures derived from dissociated embryonic tissue form strong adhesion and stable cell-electrode coupl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etermination of temporal regularity and network synchronization using coefficients of variation (CV). All calculations are based on one minute bins where a specific burst variable (bv) is either logged as a number for BR or averaged for BD and IBI. These values are used to obtain episode means with CVs for experimental episodes (left/right) or minute means for each minute of the experimental episode (top to bottom). The episode CVs (CVtime) for each channel represent a measure of temporal pattern fluctuation for that channel. Averaged across the network, CVtime reflect pattern regularity even if several patterns exist and even if they are not synchronized. Conversely, the minute CVs (CVnetwork) represent channel coordination. Averaged across the experimental episode, CVnetwork reflect the degree of network synchronization even if the pattern fluctuates in tim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C: simultaneous spike trains from 15 discriminated neurons during different experimental episodes (25-s samples).A: spontaneous native activity displaying tonic and phasic firing with occasional coordinated bursting. B: 40 μM bicuculline transforms the activity into a bursting pattern that is coordinated across neurons but with a high degree of variability in the interburst intervals (IBI) and burst durations (BD). C:N-methyl-d-aspartate only (NMDAONLY) activity consists of a synchronized periodic burst pattern. In many cases, the phase relationships between neurons remained stable for hours. D: the long-term stability of the NMDAONLY burst oscillation is demonstrated with chart recorder trace of integrated activity (τ = 0.7 s) from a single channel at 5 min and 12 h after NBQX applic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Mean coefficients of variation (16 experiments) for 3 experimental episodes: native, under 40 μM bicuculline, and NMDAONLY(number of channels 185, 185, 87 respectively). A: the CVtime for 3 different burst variables: burst rate (BR), BD, and IBI. CVtime reflects periodic behavior of the burst variable during a particular experimental episode. Large CVtime during the native episodes are due to the complex interaction of multiple neurotransmitter systems. B: the CVnetwork for the same three burst variables. CVnetwork reflects the inter-neuron synchronization across the network. When the GABAA antagonist bicuculline is applied, both CVnetwork and CVtime decrease for all variables to a range of 15–45%. When the activity is mediated solely by NMDA receptors, a further decrease in all CVs occurs (range 2.6–23%), with a concomitant reduction of the standard errors (error bars) obtained from global CVs of 16 different networks. All CVs in the 2 categories (time and network) are significantly different between experimental episodes for all burst variables (P &lt; 0.0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highly periodic nature of the NMDAONLY activity (A) is not approached when synaptic interactions are limited to those mediated by AMPA receptors (B).C: power spectra calculated from the spike trains of 106 neurons/14 separate experiments (NMDAONLY) compared with spectra calculated from 81 neurons/6 separate experiments (AMPAONLY). Raw power was calculated for each spike train (0–5 Hz, 256 bins). The resulting histograms were averaged to yield curves for each pharmacological condition. Dotted lines show 95% confidence interval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hanges in spontaneous spike rate (⋄) and burst rate (⧫) induced by sequential addition of 40 μM bicuculline (BCC), 1 μM strychnine (STR), 10 μM NBQX, and 100 μM APV. Each symbol represents the mean of 27 neurons (spike rate) and 14 channels (burst rate). ¦, times of drug application. Spontaneous activity increases within 3 min of bicuculline application at 170 min. Strychnine application at 270 min induces a further increase in both bursting and spiking, accompanied by an increase in temporal variability. Blocking AMPA receptors with NBQX at 360 min reduces both bursting and spiking to levels intermediate to BCC and STR. Note the greatly reduced activity fluctuation within 20 min after NBQX application. APV abolishes all bursting and most spiking within 10 min of application, demonstrating the dependence of the activity on the NMDA recepto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Burst rate distributions under 3 different conditions.A: native activity of 16 cultures ranges from 3 to 27 bursts per minute (bpm). B: disinhibition with 40 μM bicuculline results in a wider range (3–36 bpm), with a small peak at 12–15 bpm, indicating a preference for certain activity states but with relatively low reliability of expression. C: NMDAONLY activity ranges from 18 to 24 bpm. The narrow distribution shows the interculture reproducibility of the oscillation. Mean burst rates for 60 min intervals under each condition were calculated on a per channel basis (n = 178 channe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hanges in burst duration and burst rate elicited by pharmacological manipulation of synaptic driving forces and burst ignition and termination mechanisms (minute means from 14 channels, single experiment). The extremely low variability of the NMDAONLYactivity is indicated by the tight cluster after addition of 10 μM NBQX (green circles, 7). Further manipulation by titration of Ca2+ decreases both duration and rate, while titrating K+ to 10 mM increases the burst rate (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NMDA Receptor-Dependent Periodic Oscillations in Cultured Spinal Cord Network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Edward W. Keefer, Alexandra Gramowski, and Guenter W. Gross</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JP - JN Physiol</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86(6):3030-3042</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December 1, 2001</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5133960" y="6602400"/>
            <a:ext cx="4467240" cy="712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 of increasing Mg2+ concentration on BR and BD. Raising Mg2+ from the basal 0.8 mM under NMDAONLY conditions caused a progressive decrease in burst rates without affecting burst durations until 4–5 mM Mg2+. </a:t>
            </a:r>
            <a:endParaRPr b="0" lang="en-US" sz="1600" spc="-1" strike="noStrike">
              <a:solidFill>
                <a:srgbClr val="000000"/>
              </a:solidFill>
              <a:latin typeface="Times New Roman"/>
            </a:endParaRPr>
          </a:p>
        </p:txBody>
      </p:sp>
      <p:pic>
        <p:nvPicPr>
          <p:cNvPr id="87" name="" descr=""/>
          <p:cNvPicPr/>
          <p:nvPr/>
        </p:nvPicPr>
        <p:blipFill>
          <a:blip r:embed="rId1"/>
          <a:stretch/>
        </p:blipFill>
        <p:spPr>
          <a:xfrm>
            <a:off x="5133960" y="6602400"/>
            <a:ext cx="4467240" cy="712800"/>
          </a:xfrm>
          <a:prstGeom prst="rect">
            <a:avLst/>
          </a:prstGeom>
          <a:ln w="0">
            <a:noFill/>
          </a:ln>
        </p:spPr>
      </p:pic>
      <p:pic>
        <p:nvPicPr>
          <p:cNvPr id="88" name="" descr=""/>
          <p:cNvPicPr/>
          <p:nvPr/>
        </p:nvPicPr>
        <p:blipFill>
          <a:blip r:embed="rId2"/>
          <a:stretch/>
        </p:blipFill>
        <p:spPr>
          <a:xfrm>
            <a:off x="1046160" y="1079640"/>
            <a:ext cx="7993080" cy="5394240"/>
          </a:xfrm>
          <a:prstGeom prst="rect">
            <a:avLst/>
          </a:prstGeom>
          <a:ln w="0">
            <a:noFill/>
          </a:ln>
        </p:spPr>
      </p:pic>
      <p:sp>
        <p:nvSpPr>
          <p:cNvPr id="89" name=""/>
          <p:cNvSpPr/>
          <p:nvPr/>
        </p:nvSpPr>
        <p:spPr>
          <a:xfrm>
            <a:off x="10461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Edward W. Keefer et al. J Neurophysiol 2001;86:3030-3042</a:t>
            </a:r>
            <a:endParaRPr b="0" lang="en-US" sz="1200" spc="-1" strike="noStrike">
              <a:solidFill>
                <a:srgbClr val="000000"/>
              </a:solidFill>
              <a:latin typeface="Times New Roman"/>
            </a:endParaRPr>
          </a:p>
        </p:txBody>
      </p:sp>
      <p:sp>
        <p:nvSpPr>
          <p:cNvPr id="9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Uncoupling of presynaptic influences by bath application of 50 μM NMDA destroys the periodic nature of NMDAONLYoscillations. </a:t>
            </a:r>
            <a:endParaRPr b="0" lang="en-US" sz="1600" spc="-1" strike="noStrike">
              <a:solidFill>
                <a:srgbClr val="000000"/>
              </a:solidFill>
              <a:latin typeface="Times New Roman"/>
            </a:endParaRPr>
          </a:p>
        </p:txBody>
      </p:sp>
      <p:pic>
        <p:nvPicPr>
          <p:cNvPr id="92" name="" descr=""/>
          <p:cNvPicPr/>
          <p:nvPr/>
        </p:nvPicPr>
        <p:blipFill>
          <a:blip r:embed="rId1"/>
          <a:stretch/>
        </p:blipFill>
        <p:spPr>
          <a:xfrm>
            <a:off x="5133960" y="6602400"/>
            <a:ext cx="4467240" cy="712800"/>
          </a:xfrm>
          <a:prstGeom prst="rect">
            <a:avLst/>
          </a:prstGeom>
          <a:ln w="0">
            <a:noFill/>
          </a:ln>
        </p:spPr>
      </p:pic>
      <p:pic>
        <p:nvPicPr>
          <p:cNvPr id="93" name="" descr=""/>
          <p:cNvPicPr/>
          <p:nvPr/>
        </p:nvPicPr>
        <p:blipFill>
          <a:blip r:embed="rId2"/>
          <a:stretch/>
        </p:blipFill>
        <p:spPr>
          <a:xfrm>
            <a:off x="1442880" y="1079640"/>
            <a:ext cx="7199640" cy="5394240"/>
          </a:xfrm>
          <a:prstGeom prst="rect">
            <a:avLst/>
          </a:prstGeom>
          <a:ln w="0">
            <a:noFill/>
          </a:ln>
        </p:spPr>
      </p:pic>
      <p:sp>
        <p:nvSpPr>
          <p:cNvPr id="94" name=""/>
          <p:cNvSpPr/>
          <p:nvPr/>
        </p:nvSpPr>
        <p:spPr>
          <a:xfrm>
            <a:off x="14428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Edward W. Keefer et al. J Neurophysiol 2001;86:3030-3042</a:t>
            </a:r>
            <a:endParaRPr b="0" lang="en-US" sz="1200" spc="-1" strike="noStrike">
              <a:solidFill>
                <a:srgbClr val="000000"/>
              </a:solidFill>
              <a:latin typeface="Times New Roman"/>
            </a:endParaRPr>
          </a:p>
        </p:txBody>
      </p:sp>
      <p:sp>
        <p:nvSpPr>
          <p:cNvPr id="9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pinal cord network grown on 64-electrode array 95 days after seeding.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5133960" y="6602400"/>
            <a:ext cx="4467240" cy="712800"/>
          </a:xfrm>
          <a:prstGeom prst="rect">
            <a:avLst/>
          </a:prstGeom>
          <a:ln w="0">
            <a:noFill/>
          </a:ln>
        </p:spPr>
      </p:pic>
      <p:pic>
        <p:nvPicPr>
          <p:cNvPr id="48" name="" descr=""/>
          <p:cNvPicPr/>
          <p:nvPr/>
        </p:nvPicPr>
        <p:blipFill>
          <a:blip r:embed="rId2"/>
          <a:stretch/>
        </p:blipFill>
        <p:spPr>
          <a:xfrm>
            <a:off x="1112760" y="1079640"/>
            <a:ext cx="7859880" cy="5394240"/>
          </a:xfrm>
          <a:prstGeom prst="rect">
            <a:avLst/>
          </a:prstGeom>
          <a:ln w="0">
            <a:noFill/>
          </a:ln>
        </p:spPr>
      </p:pic>
      <p:sp>
        <p:nvSpPr>
          <p:cNvPr id="49" name=""/>
          <p:cNvSpPr/>
          <p:nvPr/>
        </p:nvSpPr>
        <p:spPr>
          <a:xfrm>
            <a:off x="11127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Edward W. Keefer et al. J Neurophysiol 2001;86:3030-3042</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etermination of temporal regularity and network synchronization using coefficients of variation (CV).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5133960" y="6602400"/>
            <a:ext cx="4467240" cy="712800"/>
          </a:xfrm>
          <a:prstGeom prst="rect">
            <a:avLst/>
          </a:prstGeom>
          <a:ln w="0">
            <a:noFill/>
          </a:ln>
        </p:spPr>
      </p:pic>
      <p:pic>
        <p:nvPicPr>
          <p:cNvPr id="53" name="" descr=""/>
          <p:cNvPicPr/>
          <p:nvPr/>
        </p:nvPicPr>
        <p:blipFill>
          <a:blip r:embed="rId2"/>
          <a:stretch/>
        </p:blipFill>
        <p:spPr>
          <a:xfrm>
            <a:off x="1330200" y="1079640"/>
            <a:ext cx="7425000" cy="5394240"/>
          </a:xfrm>
          <a:prstGeom prst="rect">
            <a:avLst/>
          </a:prstGeom>
          <a:ln w="0">
            <a:noFill/>
          </a:ln>
        </p:spPr>
      </p:pic>
      <p:sp>
        <p:nvSpPr>
          <p:cNvPr id="54" name=""/>
          <p:cNvSpPr/>
          <p:nvPr/>
        </p:nvSpPr>
        <p:spPr>
          <a:xfrm>
            <a:off x="13302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Edward W. Keefer et al. J Neurophysiol 2001;86:3030-3042</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C: simultaneous spike trains from 15 discriminated neurons during different experimental episodes (25-s samples).A: spontaneous native activity displaying tonic and phasic firing with occasional coordinated bursting.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5133960" y="6602400"/>
            <a:ext cx="4467240" cy="712800"/>
          </a:xfrm>
          <a:prstGeom prst="rect">
            <a:avLst/>
          </a:prstGeom>
          <a:ln w="0">
            <a:noFill/>
          </a:ln>
        </p:spPr>
      </p:pic>
      <p:pic>
        <p:nvPicPr>
          <p:cNvPr id="58" name="" descr=""/>
          <p:cNvPicPr/>
          <p:nvPr/>
        </p:nvPicPr>
        <p:blipFill>
          <a:blip r:embed="rId2"/>
          <a:stretch/>
        </p:blipFill>
        <p:spPr>
          <a:xfrm>
            <a:off x="2898720" y="1079640"/>
            <a:ext cx="4287960" cy="5394240"/>
          </a:xfrm>
          <a:prstGeom prst="rect">
            <a:avLst/>
          </a:prstGeom>
          <a:ln w="0">
            <a:noFill/>
          </a:ln>
        </p:spPr>
      </p:pic>
      <p:sp>
        <p:nvSpPr>
          <p:cNvPr id="59" name=""/>
          <p:cNvSpPr/>
          <p:nvPr/>
        </p:nvSpPr>
        <p:spPr>
          <a:xfrm>
            <a:off x="28987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Edward W. Keefer et al. J Neurophysiol 2001;86:3030-3042</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Mean coefficients of variation (16 experiments) for 3 experimental episodes: native, under 40 μM bicuculline, and NMDAONLY(number of channels 185, 185, 87 respectively).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5133960" y="6602400"/>
            <a:ext cx="4467240" cy="712800"/>
          </a:xfrm>
          <a:prstGeom prst="rect">
            <a:avLst/>
          </a:prstGeom>
          <a:ln w="0">
            <a:noFill/>
          </a:ln>
        </p:spPr>
      </p:pic>
      <p:pic>
        <p:nvPicPr>
          <p:cNvPr id="63" name="" descr=""/>
          <p:cNvPicPr/>
          <p:nvPr/>
        </p:nvPicPr>
        <p:blipFill>
          <a:blip r:embed="rId2"/>
          <a:stretch/>
        </p:blipFill>
        <p:spPr>
          <a:xfrm>
            <a:off x="2260440" y="1079640"/>
            <a:ext cx="5564520" cy="5394240"/>
          </a:xfrm>
          <a:prstGeom prst="rect">
            <a:avLst/>
          </a:prstGeom>
          <a:ln w="0">
            <a:noFill/>
          </a:ln>
        </p:spPr>
      </p:pic>
      <p:sp>
        <p:nvSpPr>
          <p:cNvPr id="64" name=""/>
          <p:cNvSpPr/>
          <p:nvPr/>
        </p:nvSpPr>
        <p:spPr>
          <a:xfrm>
            <a:off x="22604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Edward W. Keefer et al. J Neurophysiol 2001;86:3030-3042</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highly periodic nature of the NMDAONLY activity (A) is not approached when synaptic interactions are limited to those mediated by AMPA receptors (B).C: power spectra calculated from the spike trains of 106 neurons/14 separate experiments (NMDAONLY) comp...</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5133960" y="6602400"/>
            <a:ext cx="4467240" cy="712800"/>
          </a:xfrm>
          <a:prstGeom prst="rect">
            <a:avLst/>
          </a:prstGeom>
          <a:ln w="0">
            <a:noFill/>
          </a:ln>
        </p:spPr>
      </p:pic>
      <p:pic>
        <p:nvPicPr>
          <p:cNvPr id="68" name="" descr=""/>
          <p:cNvPicPr/>
          <p:nvPr/>
        </p:nvPicPr>
        <p:blipFill>
          <a:blip r:embed="rId2"/>
          <a:stretch/>
        </p:blipFill>
        <p:spPr>
          <a:xfrm>
            <a:off x="3132000" y="1079640"/>
            <a:ext cx="3821400" cy="5394240"/>
          </a:xfrm>
          <a:prstGeom prst="rect">
            <a:avLst/>
          </a:prstGeom>
          <a:ln w="0">
            <a:noFill/>
          </a:ln>
        </p:spPr>
      </p:pic>
      <p:sp>
        <p:nvSpPr>
          <p:cNvPr id="69" name=""/>
          <p:cNvSpPr/>
          <p:nvPr/>
        </p:nvSpPr>
        <p:spPr>
          <a:xfrm>
            <a:off x="31320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Edward W. Keefer et al. J Neurophysiol 2001;86:3030-3042</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hanges in spontaneous spike rate (⋄) and burst rate (⧫) induced by sequential addition of 40 μM bicuculline (BCC), 1 μM strychnine (STR), 10 μM NBQX, and 100 μM APV. Each symbol represents the mean of 27 neurons (spike rate) and 14 channels (burst rate).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5133960" y="6602400"/>
            <a:ext cx="4467240" cy="712800"/>
          </a:xfrm>
          <a:prstGeom prst="rect">
            <a:avLst/>
          </a:prstGeom>
          <a:ln w="0">
            <a:noFill/>
          </a:ln>
        </p:spPr>
      </p:pic>
      <p:pic>
        <p:nvPicPr>
          <p:cNvPr id="73" name="" descr=""/>
          <p:cNvPicPr/>
          <p:nvPr/>
        </p:nvPicPr>
        <p:blipFill>
          <a:blip r:embed="rId2"/>
          <a:stretch/>
        </p:blipFill>
        <p:spPr>
          <a:xfrm>
            <a:off x="838080" y="1079640"/>
            <a:ext cx="8407440" cy="5394240"/>
          </a:xfrm>
          <a:prstGeom prst="rect">
            <a:avLst/>
          </a:prstGeom>
          <a:ln w="0">
            <a:noFill/>
          </a:ln>
        </p:spPr>
      </p:pic>
      <p:sp>
        <p:nvSpPr>
          <p:cNvPr id="74" name=""/>
          <p:cNvSpPr/>
          <p:nvPr/>
        </p:nvSpPr>
        <p:spPr>
          <a:xfrm>
            <a:off x="8380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Edward W. Keefer et al. J Neurophysiol 2001;86:3030-3042</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Burst rate distributions under 3 different conditions.A: native activity of 16 cultures ranges from 3 to 27 bursts per minute (bpm).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5133960" y="6602400"/>
            <a:ext cx="4467240" cy="712800"/>
          </a:xfrm>
          <a:prstGeom prst="rect">
            <a:avLst/>
          </a:prstGeom>
          <a:ln w="0">
            <a:noFill/>
          </a:ln>
        </p:spPr>
      </p:pic>
      <p:pic>
        <p:nvPicPr>
          <p:cNvPr id="78" name="" descr=""/>
          <p:cNvPicPr/>
          <p:nvPr/>
        </p:nvPicPr>
        <p:blipFill>
          <a:blip r:embed="rId2"/>
          <a:stretch/>
        </p:blipFill>
        <p:spPr>
          <a:xfrm>
            <a:off x="3720960" y="1079640"/>
            <a:ext cx="2643480" cy="5394240"/>
          </a:xfrm>
          <a:prstGeom prst="rect">
            <a:avLst/>
          </a:prstGeom>
          <a:ln w="0">
            <a:noFill/>
          </a:ln>
        </p:spPr>
      </p:pic>
      <p:sp>
        <p:nvSpPr>
          <p:cNvPr id="79" name=""/>
          <p:cNvSpPr/>
          <p:nvPr/>
        </p:nvSpPr>
        <p:spPr>
          <a:xfrm>
            <a:off x="37209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Edward W. Keefer et al. J Neurophysiol 2001;86:3030-3042</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hanges in burst duration and burst rate elicited by pharmacological manipulation of synaptic driving forces and burst ignition and termination mechanisms (minute means from 14 channels, single experiment).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5133960" y="6602400"/>
            <a:ext cx="4467240" cy="712800"/>
          </a:xfrm>
          <a:prstGeom prst="rect">
            <a:avLst/>
          </a:prstGeom>
          <a:ln w="0">
            <a:noFill/>
          </a:ln>
        </p:spPr>
      </p:pic>
      <p:pic>
        <p:nvPicPr>
          <p:cNvPr id="83" name="" descr=""/>
          <p:cNvPicPr/>
          <p:nvPr/>
        </p:nvPicPr>
        <p:blipFill>
          <a:blip r:embed="rId2"/>
          <a:stretch/>
        </p:blipFill>
        <p:spPr>
          <a:xfrm>
            <a:off x="3078000" y="1079640"/>
            <a:ext cx="3927600" cy="5394240"/>
          </a:xfrm>
          <a:prstGeom prst="rect">
            <a:avLst/>
          </a:prstGeom>
          <a:ln w="0">
            <a:noFill/>
          </a:ln>
        </p:spPr>
      </p:pic>
      <p:sp>
        <p:nvSpPr>
          <p:cNvPr id="84" name=""/>
          <p:cNvSpPr/>
          <p:nvPr/>
        </p:nvSpPr>
        <p:spPr>
          <a:xfrm>
            <a:off x="30780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Edward W. Keefer et al. J Neurophysiol 2001;86:3030-3042</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American Physiological Society</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