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op: injection sites in the smooth eye-movement subregion of the frontal eye field (FEFsem) of monkey C23 (left) and in the saccadic eye-movement subregion of the FEF (FEFsac) of monkey C21(right) in coronal sections. Single placements of biotinylated dextran amine (BDA) are within the gray matter of each functional subregion of the FEF. Bottom: a lateral view of the left hemisphere of monkey C23. The injection sites are marked by red (FEFsac) and blue (FEFsem) dots. The vertical lines indicate the cutting planes in the above sec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agittal diagram of Cebus brain stem. The vertical lines indicate sections in monkey C21. iC, interstitial nucleus of Cajal; MLF, medial longitudinal fasciculus; nD, nucleus of Darkschewitsch; riMLF, rostral interstitial nucleus of the medial longitudinal faciculus; rn, red nucleus; NRTP, nucleus reticularis tegmenti pontis; PPRF, paramedian pontine reticular formation; TR, tractus retroflexus; III, oculomotor nucleus; IV, trochlear nucleus; VI, abducens nucle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ytoarchitecture of rostral riMLF region (A) and labeling following injection into the FEFsac (C andE) and FEFsem (B, D, andF). B: labeling in riMLF after FEFsem injection (B). C: labeling in riMLF after FEFsac injection (C). D: higher-power view of region marked by arrow in B. Inset: oil immersion detail of terminals indicated by arrows. E: labeling in superior colliculus (SC) after FEFsac injection in monkey C21. F: labeling in SC after FEFsem injection in monkey C23.PRN, parvicellular red nucleus; SNc, substantia nigra, pars compacta; SNr, substantia nigra, pars reticularis; ST, subthalamic nucleus; ZI, zona incerta. Aq, cerebral aquedu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distribution and relative density of direct projections from the FEFsac (left) and FEFsem (right) to the riMLF. Sections are 600 μm apart. The density of the labeling is represented by the relative density of the red dots. The dashed rectangle labeled C in section 504 indicates the position of the high-power photomicrograph illustrated in Fig. 3 C. The dashed rectangle labeled B in section 437 indicates the position of the high-power photomicrograph in Fig. 3 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Overlap of Saccadic and Pursuit Eye Movement Systems in the Brain Stem Reticular Form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Yi-Jun Yan, Dong-Mei Cui, and James C. Lynch</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6(6):3056-306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op: injection sites in the smooth eye-movement subregion of the frontal eye field (FEFsem) of monkey C23 (left) and in the saccadic eye-movement subregion of the FEF (FEFsac) of monkey C21(right) in coronal section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2967120" y="1079640"/>
            <a:ext cx="4151160" cy="5394240"/>
          </a:xfrm>
          <a:prstGeom prst="rect">
            <a:avLst/>
          </a:prstGeom>
          <a:ln w="0">
            <a:noFill/>
          </a:ln>
        </p:spPr>
      </p:pic>
      <p:sp>
        <p:nvSpPr>
          <p:cNvPr id="49" name=""/>
          <p:cNvSpPr/>
          <p:nvPr/>
        </p:nvSpPr>
        <p:spPr>
          <a:xfrm>
            <a:off x="2967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i-Jun Yan et al. J Neurophysiol 2001;86:3056-306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agittal diagram of Cebus brain stem.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2300400" y="1079640"/>
            <a:ext cx="5484600" cy="5394240"/>
          </a:xfrm>
          <a:prstGeom prst="rect">
            <a:avLst/>
          </a:prstGeom>
          <a:ln w="0">
            <a:noFill/>
          </a:ln>
        </p:spPr>
      </p:pic>
      <p:sp>
        <p:nvSpPr>
          <p:cNvPr id="54" name=""/>
          <p:cNvSpPr/>
          <p:nvPr/>
        </p:nvSpPr>
        <p:spPr>
          <a:xfrm>
            <a:off x="2300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i-Jun Yan et al. J Neurophysiol 2001;86:3056-306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ytoarchitecture of rostral riMLF region (A) and labeling following injection into the FEFsac (C andE) and FEFsem (B, D, andF).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689200" y="1079640"/>
            <a:ext cx="4707000" cy="5394240"/>
          </a:xfrm>
          <a:prstGeom prst="rect">
            <a:avLst/>
          </a:prstGeom>
          <a:ln w="0">
            <a:noFill/>
          </a:ln>
        </p:spPr>
      </p:pic>
      <p:sp>
        <p:nvSpPr>
          <p:cNvPr id="59" name=""/>
          <p:cNvSpPr/>
          <p:nvPr/>
        </p:nvSpPr>
        <p:spPr>
          <a:xfrm>
            <a:off x="2689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i-Jun Yan et al. J Neurophysiol 2001;86:3056-306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distribution and relative density of direct projections from the FEFsac (left) and FEFsem (right) to the riMLF.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2786040" y="1079640"/>
            <a:ext cx="4511520" cy="5394240"/>
          </a:xfrm>
          <a:prstGeom prst="rect">
            <a:avLst/>
          </a:prstGeom>
          <a:ln w="0">
            <a:noFill/>
          </a:ln>
        </p:spPr>
      </p:pic>
      <p:sp>
        <p:nvSpPr>
          <p:cNvPr id="64" name=""/>
          <p:cNvSpPr/>
          <p:nvPr/>
        </p:nvSpPr>
        <p:spPr>
          <a:xfrm>
            <a:off x="2786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i-Jun Yan et al. J Neurophysiol 2001;86:3056-306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