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chematic of order-specific spike-timing dependent plasticity (STDP) function. Maximal plasticity is produced by short negative or positive interspike intervals (ISIs). Representative traces from the models of pairings at negative ISIs (gray inset) and positive ISIs (black inse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odel 1, based on the standard model and a single coincidence detector. A: representative Ca2+concentrations as computed in model 1 for a −10-ms (top) and a +10-ms (bottom) ISI. The voltage-gated Ca2+ channel (VGCC) Ca2+ (black) and the N-methyl-d-aspartate receptor (NMDAR)–dependent Ca2+ (blue) are summed into a single pool (green). The peak Ca2+ influx (red) is measured from this sum and is used as the model output for each ISI. Filled arrows indicate excitatory postsynaptic potential (EPSP) onset; open arrows indicate postsynaptic spike onset. B: graph of percentage change in peak Ca2+ values for each ISI from −50 to +100. C: plot of plasticity as a function of percentage change in peak Ca2+. D: STDP curve determined by applying the plasticity vs. Ca2+function (C) to the model's Ca2+ output as a function of ISI (B). Black trace is determined from the values displayed in C and B; gray trace is the output of the same model with an alternate NMDAR dissociation constant (β = 0.025). Arbitrary units used for Ca2+ and plasticity measurem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odel 2, based on 2 coincidence detectors.A: the integral values for NMDAR Ca2+ influx (black) and mGluR-dependent pathway activity (gray) for a range of positive and negative ISIs. B: the complete STDP function produced by using the model output in (A) as a directly proportional measure of plastic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sults from extending the induction protocols for models 1 and 2. A single presynaptic spike was paired with a burst of 3 postsynaptic spikes across a range of ISIs.A: percentage change in peak Ca2+ vs. ISI output of model 1 for the single-spike (gray trace) and burst (black trace) protocols. Increasing the postsynaptic activity changes the shape and timing sensitivity of the function, and also shifts it entirely above the long-term potentiation (LTP) threshold (red line). B: STDP vs. ISI curves from model 2 for the single spike pairings (gray) and burst (black) pairings. The red trace is the predicted STDP function for the burst protoco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 Model of Spike-Timing Dependent Plasticity: One or Two Coincidence Detector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Uma R. Karmarkar, and Dean V. Buonomano</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JN Phys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88(1):507-51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ly 1, 2002</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chematic of order-specific spike-timing dependent plasticity (STDP) function.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1015920" y="1079640"/>
            <a:ext cx="8051760" cy="5394240"/>
          </a:xfrm>
          <a:prstGeom prst="rect">
            <a:avLst/>
          </a:prstGeom>
          <a:ln w="0">
            <a:noFill/>
          </a:ln>
        </p:spPr>
      </p:pic>
      <p:sp>
        <p:nvSpPr>
          <p:cNvPr id="49" name=""/>
          <p:cNvSpPr/>
          <p:nvPr/>
        </p:nvSpPr>
        <p:spPr>
          <a:xfrm>
            <a:off x="10159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Uma R. Karmarkar, and Dean V. Buonomano J Neurophysiol 2002;88:507-513</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odel 1, based on the standard model and a single coincidence detector.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1069920" y="1079640"/>
            <a:ext cx="7947000" cy="5394240"/>
          </a:xfrm>
          <a:prstGeom prst="rect">
            <a:avLst/>
          </a:prstGeom>
          <a:ln w="0">
            <a:noFill/>
          </a:ln>
        </p:spPr>
      </p:pic>
      <p:sp>
        <p:nvSpPr>
          <p:cNvPr id="54" name=""/>
          <p:cNvSpPr/>
          <p:nvPr/>
        </p:nvSpPr>
        <p:spPr>
          <a:xfrm>
            <a:off x="10699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Uma R. Karmarkar, and Dean V. Buonomano J Neurophysiol 2002;88:507-513</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odel 2, based on 2 coincidence detectors.A: the integral values for NMDAR Ca2+ influx (black) and mGluR-dependent pathway activity (gray) for a range of positive and negative ISIs. B: the complete STDP function produced by using the model output in (A) a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2087640" y="1079640"/>
            <a:ext cx="5910120" cy="5394240"/>
          </a:xfrm>
          <a:prstGeom prst="rect">
            <a:avLst/>
          </a:prstGeom>
          <a:ln w="0">
            <a:noFill/>
          </a:ln>
        </p:spPr>
      </p:pic>
      <p:sp>
        <p:nvSpPr>
          <p:cNvPr id="59" name=""/>
          <p:cNvSpPr/>
          <p:nvPr/>
        </p:nvSpPr>
        <p:spPr>
          <a:xfrm>
            <a:off x="20876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Uma R. Karmarkar, and Dean V. Buonomano J Neurophysiol 2002;88:507-513</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sults from extending the induction protocols for models 1 and 2.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5133960" y="6602400"/>
            <a:ext cx="4467240" cy="712800"/>
          </a:xfrm>
          <a:prstGeom prst="rect">
            <a:avLst/>
          </a:prstGeom>
          <a:ln w="0">
            <a:noFill/>
          </a:ln>
        </p:spPr>
      </p:pic>
      <p:pic>
        <p:nvPicPr>
          <p:cNvPr id="63" name="" descr=""/>
          <p:cNvPicPr/>
          <p:nvPr/>
        </p:nvPicPr>
        <p:blipFill>
          <a:blip r:embed="rId2"/>
          <a:stretch/>
        </p:blipFill>
        <p:spPr>
          <a:xfrm>
            <a:off x="2909880" y="1079640"/>
            <a:ext cx="4265640" cy="5394240"/>
          </a:xfrm>
          <a:prstGeom prst="rect">
            <a:avLst/>
          </a:prstGeom>
          <a:ln w="0">
            <a:noFill/>
          </a:ln>
        </p:spPr>
      </p:pic>
      <p:sp>
        <p:nvSpPr>
          <p:cNvPr id="64" name=""/>
          <p:cNvSpPr/>
          <p:nvPr/>
        </p:nvSpPr>
        <p:spPr>
          <a:xfrm>
            <a:off x="29098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Uma R. Karmarkar, and Dean V. Buonomano J Neurophysiol 2002;88:507-513</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