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Multi-whisker receptive fields of VPM-projecting PrV neurons.A: example of a VPM-projecting PrV cell that responded to stimulation of multiple adjacent whiskers (AWs). PSTHs are shown for the PW (D2) and the 4 AWs tested. Inset: location of whiskers on the face. Vertical scale bar is spike probability per 1-ms bin. B: distribution of AW:PW onresponse ratios. Ratios were calculated by dividing each AWon response (n = 197) by theon response of the corresponding PW. Average (all angles) on responses were used in the calculation of AW:PW on ratios. Arrow indicates bin containing mean value. C: cumulative probability distributions of AW:PWon response ratios for each of the 4 AWs tested. C = caudal (n = 56), R = rostral (n = 59), V = ventral (n = 23), D = dorsal (n = 59). D: distribution of average AW:PWon response ratios for those PrV cells for which at least 2 AWs were tested (n = 65). Average AW:PWon ratios for a given cell were calculated using 2 randomly selected AWs. Arrow indicates bin containing mean valu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omparison of AW and PW response characteristics for VPM-projecting PrV neurons. A: distribution of directional tuning indices for statistically significant AW on responses (n = 129). B: normalized and rotated population polar plots showing similarities between AW (n = 129) and PW (n = 72)on response tuning. Polar plots were computed as described in methods. C: comparison of adaptive properties between AW and PW populations. Only AWs having statistically significant on responses were included in the analysi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Histological localization of electrode tracks in trigeminal nucleus principalis (PrV; top) and the ventroposterior medial nucleus of the thalamus (VPM; bottom) from a single experiment. Tissue sections (60 μm) were cut in an oblique coronal plane, reacted for cytochrome oxidase, and counter-stained with thionin. Electrode tracks are oriented dorsal-ventrally and are clearly visible in both nuclei. Note also the presence of barrelettes in ventral PrV (arrow). Abbreviations for anatomical landmarks are as follows: MoV, trigeminal motor nucleus; sV, sensory root of the trigeminal nerve; PO, posterior group; VPL, ventroposterior lateral nucleus; Rt, reticular nucleu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ntidromic identification of VPM-projecting cells. A: distribution of antidromic latencies. Latencies were measured from the onset of the stimulus artifact to the onset of the antidromic spike (inset). Arrow above histogram indicates bin containing the mean antidromic latency for all cells (n = 72).B: 4 superimposed traces of an antidromic spike demonstrating small variability in latency. *Stimulus artifact.C: example of a collision test for the cell shown inB. Top: when the delay (Δt) between the spontaneously occurring spike and the antidromic stimulus was greater than the critical “collision interval” (CI), the spontaneous and antidromic spikes failed to collide. Bottom: when Δt was less than CI, the antidromic spike collided with the spontaneous spike and therefore did not appear following the stimulus artifact. CIs measured in this study were typically close to theoretical values as given by the formula: CI = antridromic latency + axonal refractory period. Axonal refractory periods were assessed using the twin pulse paradigm described in methods. (Note: 3 superimposed traces are shown for each scenario in C. Raw signals were high-pass filtered at 10 kHz to minimize the stimulus artifact.)</a:t>
            </a:r>
            <a:r>
              <a:rPr b="0" lang="en-GB" sz="1200" spc="-1" strike="noStrike">
                <a:solidFill>
                  <a:srgbClr val="000000"/>
                </a:solidFill>
                <a:latin typeface="Arial"/>
                <a:ea typeface="msgothic"/>
              </a:rPr>
              <a: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Responses of VPM-projecting PrV neurons to ramp-and-hold deflections of the principal whisker (PW). A: peristimulus time histograms (PSTHs; 1-ms bins) showing response of a single PrV cell to PW deflections in 8 directions (10 trials per direction). Stimulus waveform is indicated at bottom. Units on vertical scale bar are spike probability per 1-ms bin (probability per bin = spikes per bin/number of trials). B: polar plot illustrating directional tuning of the cell shown in A. Units on axes are spikes per stimulus onset (on). C: population PSTH for all VPM-projecting PrV cells (n= 72). Responses at all deflection angles are included in the PSTH (total deflections = 5,760). Horizontal bars indicate the 3 response windows from which subsequent data were derived. Scale bar units are same as in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Frequency distributions of stimulus-evoked/spontaneous activities and response latencies of VPM-projecting PrV cells. A–C: distributions of response magnitudes measured at each cell's maximally responsive deflection angle. All responses for all cells were included irrespective of statistical significance (PW, n = 72; AW, n = 197). Responses to stimulus onset (on) and offset (off) were measured over 20-ms windows. Plateau responses were measured over the middle 100 ms of the stimulus plateau. All responses were averaged over 10 trials.D: distributions of spontaneous activity for PrV (n = 72) and trigeminal ganglion (NV,n = 50) populations. E: distributions of on response latencies for PrV PWs and AWs. Latency to response onset for a given cell and a given whisker was calculated from the corresponding PSTH (all deflection angles included; see methods). Only statistically significanton responses were included in the latency analysis (PW, n = 72; AW, n = 129).F: distribution of on response latencies for NV neurons (n = 64). Latencies were calculated as in E. Temporal resolution for all latency measurements was 1 ms. Arrows over all histograms (A–F) indicate bins containing mean values (A–C: solid = PW, dashed = AW; D: solid = PrV, dashed = NV; E: solid = PW, dashed = AW;F: solid = NV).</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Overlaid population PSTHs showing differences between VPM-projecting PrV neurons (black line, n = 72) and NV neurons (gray line, n = 64) in terms of maximum angleon (left) and off(right) responses. Shaded area is the difference between the 2 populations (NV − PrV). Tick marks on x axis indicate 1-ms bins. Dark bars under each PSTH correspond to the 20-ms time window used to compute on andoff respons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irectional tuning of VPM-projecting PrV neurons (n= 72) compared with NV neurons (n = 64). All data shown (A–C) are for PW deflections.A: frequency distributions of tuning ratios, defined as [mean on response (all angles)/maximum angleon response]. Arrows indicate bins containing mean values (solid = PrV; dashed = NV). Note the stronger directional tuning of NV neurons as indicated by their smaller tuning ratios. B: distributions of directional tuning indices (see methods) for on responses. Index of 7 indicates highly tuned response; 0 indicates lack of directional tuning. C: normalized and rotated population polar plots illustrating broader directional tuning of VPM-projecting PrV cells with respect to NV cells (see methods for description of how plots were constructe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irectional consistency of VPM-projecting PrV neurons (n = 72) vs. NV neurons (n = 64). A: scatter plot showing relationship betweenon and off responses for a directionally consistent VPM-projecting PrV cell. The 8 points correspond to the 8 different deflection angles. offand on response values for each point are averages of 10 deflections. B: distributions of correlation coefficients (off vs. on) for both PrV and NV populations. Correlation coefficients were computed as shown in A. Arrows indicate bins containing mean values (solid = PrV; dashed = NV). Note the greater directional consistency of the NV population. C: population PSTHs demonstrating greater directional consistency of NV neurons (right) compared with VPM-projecting PrV neurons (left). Black line shows the population response at the angle producing the maximum off response. Gray line indicates the response at the opposite angle. Note that the tendency toward an inverse relationship between the 2 angles in terms ofoff: on ratios is stronger in NV than in PrV.</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omparison of adaptive properties between VPM-projecting PrV neurons and NV neurons. A: proportion of cells in each population classified as tonic or phasic (see methods). Tonic cells responded during the plateau phase of the stimulus, while phasic cells responded only to the transient on and/oroff phases of the stimulus. B: overlaid, background-subtracted population PSTHs illustrating greater plateau responses of NV (gray line) neurons at the maximally responsive plateau angle. Only tonic NV (n = 48) and PrV (black line; n = 67) cells were included in the PSTHs. C: normalized and rotated population polar plots comparing directional tuning of plateau responses of tonic VPM-projecting PrV cells and tonic NV cells. Note the sharper tuning of plateau responses within the NV population. Polar plots were computed as described in methods. D: distributions of adaptation indices for tonic NV and PrV populations. Adaptation index was defined as the ratio of the maximum angle plateau response to the maximum angle on response. Arrows indicate bins containing mean values (solid = PrV; dashed = NV).</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Response Properties of Whisker-Associated Trigeminothalamic Neurons in Rat Nucleus Principalis</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Brandon S. Minnery, and Daniel J. Simons</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AJP - JN Physiol</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89(1):40-56</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anuary 1, 2003</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American Physiological Society</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5133960" y="6602400"/>
            <a:ext cx="4467240" cy="712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Multi-whisker receptive fields of VPM-projecting PrV neurons.A: example of a VPM-projecting PrV cell that responded to stimulation of multiple adjacent whiskers (AWs). </a:t>
            </a:r>
            <a:endParaRPr b="0" lang="en-US" sz="1600" spc="-1" strike="noStrike">
              <a:solidFill>
                <a:srgbClr val="000000"/>
              </a:solidFill>
              <a:latin typeface="Times New Roman"/>
            </a:endParaRPr>
          </a:p>
        </p:txBody>
      </p:sp>
      <p:pic>
        <p:nvPicPr>
          <p:cNvPr id="87" name="" descr=""/>
          <p:cNvPicPr/>
          <p:nvPr/>
        </p:nvPicPr>
        <p:blipFill>
          <a:blip r:embed="rId1"/>
          <a:stretch/>
        </p:blipFill>
        <p:spPr>
          <a:xfrm>
            <a:off x="5133960" y="6602400"/>
            <a:ext cx="4467240" cy="712800"/>
          </a:xfrm>
          <a:prstGeom prst="rect">
            <a:avLst/>
          </a:prstGeom>
          <a:ln w="0">
            <a:noFill/>
          </a:ln>
        </p:spPr>
      </p:pic>
      <p:pic>
        <p:nvPicPr>
          <p:cNvPr id="88" name="" descr=""/>
          <p:cNvPicPr/>
          <p:nvPr/>
        </p:nvPicPr>
        <p:blipFill>
          <a:blip r:embed="rId2"/>
          <a:stretch/>
        </p:blipFill>
        <p:spPr>
          <a:xfrm>
            <a:off x="2076480" y="1079640"/>
            <a:ext cx="5932440" cy="5394240"/>
          </a:xfrm>
          <a:prstGeom prst="rect">
            <a:avLst/>
          </a:prstGeom>
          <a:ln w="0">
            <a:noFill/>
          </a:ln>
        </p:spPr>
      </p:pic>
      <p:sp>
        <p:nvSpPr>
          <p:cNvPr id="89" name=""/>
          <p:cNvSpPr/>
          <p:nvPr/>
        </p:nvSpPr>
        <p:spPr>
          <a:xfrm>
            <a:off x="207648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Brandon S. Minnery, and Daniel J. Simons J Neurophysiol 2003;89:40-56</a:t>
            </a:r>
            <a:endParaRPr b="0" lang="en-US" sz="1200" spc="-1" strike="noStrike">
              <a:solidFill>
                <a:srgbClr val="000000"/>
              </a:solidFill>
              <a:latin typeface="Times New Roman"/>
            </a:endParaRPr>
          </a:p>
        </p:txBody>
      </p:sp>
      <p:sp>
        <p:nvSpPr>
          <p:cNvPr id="9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American Physiological Society</a:t>
            </a:r>
            <a:endParaRPr b="0" lang="en-US" sz="1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omparison of AW and PW response characteristics for VPM-projecting PrV neurons. </a:t>
            </a:r>
            <a:endParaRPr b="0" lang="en-US" sz="1600" spc="-1" strike="noStrike">
              <a:solidFill>
                <a:srgbClr val="000000"/>
              </a:solidFill>
              <a:latin typeface="Times New Roman"/>
            </a:endParaRPr>
          </a:p>
        </p:txBody>
      </p:sp>
      <p:pic>
        <p:nvPicPr>
          <p:cNvPr id="92" name="" descr=""/>
          <p:cNvPicPr/>
          <p:nvPr/>
        </p:nvPicPr>
        <p:blipFill>
          <a:blip r:embed="rId1"/>
          <a:stretch/>
        </p:blipFill>
        <p:spPr>
          <a:xfrm>
            <a:off x="5133960" y="6602400"/>
            <a:ext cx="4467240" cy="712800"/>
          </a:xfrm>
          <a:prstGeom prst="rect">
            <a:avLst/>
          </a:prstGeom>
          <a:ln w="0">
            <a:noFill/>
          </a:ln>
        </p:spPr>
      </p:pic>
      <p:pic>
        <p:nvPicPr>
          <p:cNvPr id="93" name="" descr=""/>
          <p:cNvPicPr/>
          <p:nvPr/>
        </p:nvPicPr>
        <p:blipFill>
          <a:blip r:embed="rId2"/>
          <a:stretch/>
        </p:blipFill>
        <p:spPr>
          <a:xfrm>
            <a:off x="1111320" y="1079640"/>
            <a:ext cx="7862760" cy="5394240"/>
          </a:xfrm>
          <a:prstGeom prst="rect">
            <a:avLst/>
          </a:prstGeom>
          <a:ln w="0">
            <a:noFill/>
          </a:ln>
        </p:spPr>
      </p:pic>
      <p:sp>
        <p:nvSpPr>
          <p:cNvPr id="94" name=""/>
          <p:cNvSpPr/>
          <p:nvPr/>
        </p:nvSpPr>
        <p:spPr>
          <a:xfrm>
            <a:off x="111132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Brandon S. Minnery, and Daniel J. Simons J Neurophysiol 2003;89:40-56</a:t>
            </a:r>
            <a:endParaRPr b="0" lang="en-US" sz="1200" spc="-1" strike="noStrike">
              <a:solidFill>
                <a:srgbClr val="000000"/>
              </a:solidFill>
              <a:latin typeface="Times New Roman"/>
            </a:endParaRPr>
          </a:p>
        </p:txBody>
      </p:sp>
      <p:sp>
        <p:nvSpPr>
          <p:cNvPr id="9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American Physiological Society</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Histological localization of electrode tracks in trigeminal nucleus principalis (PrV; top) and the ventroposterior medial nucleus of the thalamus (VPM; bottom) from a single experiment.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5133960" y="6602400"/>
            <a:ext cx="4467240" cy="712800"/>
          </a:xfrm>
          <a:prstGeom prst="rect">
            <a:avLst/>
          </a:prstGeom>
          <a:ln w="0">
            <a:noFill/>
          </a:ln>
        </p:spPr>
      </p:pic>
      <p:pic>
        <p:nvPicPr>
          <p:cNvPr id="48" name="" descr=""/>
          <p:cNvPicPr/>
          <p:nvPr/>
        </p:nvPicPr>
        <p:blipFill>
          <a:blip r:embed="rId2"/>
          <a:stretch/>
        </p:blipFill>
        <p:spPr>
          <a:xfrm>
            <a:off x="3295800" y="1079640"/>
            <a:ext cx="3493800" cy="5394240"/>
          </a:xfrm>
          <a:prstGeom prst="rect">
            <a:avLst/>
          </a:prstGeom>
          <a:ln w="0">
            <a:noFill/>
          </a:ln>
        </p:spPr>
      </p:pic>
      <p:sp>
        <p:nvSpPr>
          <p:cNvPr id="49" name=""/>
          <p:cNvSpPr/>
          <p:nvPr/>
        </p:nvSpPr>
        <p:spPr>
          <a:xfrm>
            <a:off x="3295800" y="6583320"/>
            <a:ext cx="431928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Brandon S. Minnery, and Daniel J. Simons J Neurophysiol 2003;89:40-56</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American Physiological Society</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ntidromic identification of VPM-projecting cells.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5133960" y="6602400"/>
            <a:ext cx="4467240" cy="712800"/>
          </a:xfrm>
          <a:prstGeom prst="rect">
            <a:avLst/>
          </a:prstGeom>
          <a:ln w="0">
            <a:noFill/>
          </a:ln>
        </p:spPr>
      </p:pic>
      <p:pic>
        <p:nvPicPr>
          <p:cNvPr id="53" name="" descr=""/>
          <p:cNvPicPr/>
          <p:nvPr/>
        </p:nvPicPr>
        <p:blipFill>
          <a:blip r:embed="rId2"/>
          <a:stretch/>
        </p:blipFill>
        <p:spPr>
          <a:xfrm>
            <a:off x="3892680" y="1079640"/>
            <a:ext cx="2301840" cy="5394240"/>
          </a:xfrm>
          <a:prstGeom prst="rect">
            <a:avLst/>
          </a:prstGeom>
          <a:ln w="0">
            <a:noFill/>
          </a:ln>
        </p:spPr>
      </p:pic>
      <p:sp>
        <p:nvSpPr>
          <p:cNvPr id="54" name=""/>
          <p:cNvSpPr/>
          <p:nvPr/>
        </p:nvSpPr>
        <p:spPr>
          <a:xfrm>
            <a:off x="3892680" y="6583320"/>
            <a:ext cx="431928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Brandon S. Minnery, and Daniel J. Simons J Neurophysiol 2003;89:40-56</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American Physiological Society</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Responses of VPM-projecting PrV neurons to ramp-and-hold deflections of the principal whisker (PW).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5133960" y="6602400"/>
            <a:ext cx="4467240" cy="712800"/>
          </a:xfrm>
          <a:prstGeom prst="rect">
            <a:avLst/>
          </a:prstGeom>
          <a:ln w="0">
            <a:noFill/>
          </a:ln>
        </p:spPr>
      </p:pic>
      <p:pic>
        <p:nvPicPr>
          <p:cNvPr id="58" name="" descr=""/>
          <p:cNvPicPr/>
          <p:nvPr/>
        </p:nvPicPr>
        <p:blipFill>
          <a:blip r:embed="rId2"/>
          <a:stretch/>
        </p:blipFill>
        <p:spPr>
          <a:xfrm>
            <a:off x="1773360" y="1079640"/>
            <a:ext cx="6538680" cy="5394240"/>
          </a:xfrm>
          <a:prstGeom prst="rect">
            <a:avLst/>
          </a:prstGeom>
          <a:ln w="0">
            <a:noFill/>
          </a:ln>
        </p:spPr>
      </p:pic>
      <p:sp>
        <p:nvSpPr>
          <p:cNvPr id="59" name=""/>
          <p:cNvSpPr/>
          <p:nvPr/>
        </p:nvSpPr>
        <p:spPr>
          <a:xfrm>
            <a:off x="177336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Brandon S. Minnery, and Daniel J. Simons J Neurophysiol 2003;89:40-56</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American Physiological Society</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Frequency distributions of stimulus-evoked/spontaneous activities and response latencies of VPM-projecting PrV cells.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5133960" y="6602400"/>
            <a:ext cx="4467240" cy="712800"/>
          </a:xfrm>
          <a:prstGeom prst="rect">
            <a:avLst/>
          </a:prstGeom>
          <a:ln w="0">
            <a:noFill/>
          </a:ln>
        </p:spPr>
      </p:pic>
      <p:pic>
        <p:nvPicPr>
          <p:cNvPr id="63" name="" descr=""/>
          <p:cNvPicPr/>
          <p:nvPr/>
        </p:nvPicPr>
        <p:blipFill>
          <a:blip r:embed="rId2"/>
          <a:stretch/>
        </p:blipFill>
        <p:spPr>
          <a:xfrm>
            <a:off x="2424240" y="1079640"/>
            <a:ext cx="5235480" cy="5394240"/>
          </a:xfrm>
          <a:prstGeom prst="rect">
            <a:avLst/>
          </a:prstGeom>
          <a:ln w="0">
            <a:noFill/>
          </a:ln>
        </p:spPr>
      </p:pic>
      <p:sp>
        <p:nvSpPr>
          <p:cNvPr id="64" name=""/>
          <p:cNvSpPr/>
          <p:nvPr/>
        </p:nvSpPr>
        <p:spPr>
          <a:xfrm>
            <a:off x="242424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Brandon S. Minnery, and Daniel J. Simons J Neurophysiol 2003;89:40-56</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American Physiological Society</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Overlaid population PSTHs showing differences between VPM-projecting PrV neurons (black line, n = 72) and NV neurons (gray line, n = 64) in terms of maximum angleon (left) and off(right) responses.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5133960" y="6602400"/>
            <a:ext cx="4467240" cy="712800"/>
          </a:xfrm>
          <a:prstGeom prst="rect">
            <a:avLst/>
          </a:prstGeom>
          <a:ln w="0">
            <a:noFill/>
          </a:ln>
        </p:spPr>
      </p:pic>
      <p:pic>
        <p:nvPicPr>
          <p:cNvPr id="68" name="" descr=""/>
          <p:cNvPicPr/>
          <p:nvPr/>
        </p:nvPicPr>
        <p:blipFill>
          <a:blip r:embed="rId2"/>
          <a:stretch/>
        </p:blipFill>
        <p:spPr>
          <a:xfrm>
            <a:off x="739800" y="2122560"/>
            <a:ext cx="8604360" cy="3308400"/>
          </a:xfrm>
          <a:prstGeom prst="rect">
            <a:avLst/>
          </a:prstGeom>
          <a:ln w="0">
            <a:noFill/>
          </a:ln>
        </p:spPr>
      </p:pic>
      <p:sp>
        <p:nvSpPr>
          <p:cNvPr id="69" name=""/>
          <p:cNvSpPr/>
          <p:nvPr/>
        </p:nvSpPr>
        <p:spPr>
          <a:xfrm>
            <a:off x="7398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Brandon S. Minnery, and Daniel J. Simons J Neurophysiol 2003;89:40-56</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American Physiological Society</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irectional tuning of VPM-projecting PrV neurons (n= 72) compared with NV neurons (n = 64).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5133960" y="6602400"/>
            <a:ext cx="4467240" cy="712800"/>
          </a:xfrm>
          <a:prstGeom prst="rect">
            <a:avLst/>
          </a:prstGeom>
          <a:ln w="0">
            <a:noFill/>
          </a:ln>
        </p:spPr>
      </p:pic>
      <p:pic>
        <p:nvPicPr>
          <p:cNvPr id="73" name="" descr=""/>
          <p:cNvPicPr/>
          <p:nvPr/>
        </p:nvPicPr>
        <p:blipFill>
          <a:blip r:embed="rId2"/>
          <a:stretch/>
        </p:blipFill>
        <p:spPr>
          <a:xfrm>
            <a:off x="3809880" y="1079640"/>
            <a:ext cx="2467080" cy="5394240"/>
          </a:xfrm>
          <a:prstGeom prst="rect">
            <a:avLst/>
          </a:prstGeom>
          <a:ln w="0">
            <a:noFill/>
          </a:ln>
        </p:spPr>
      </p:pic>
      <p:sp>
        <p:nvSpPr>
          <p:cNvPr id="74" name=""/>
          <p:cNvSpPr/>
          <p:nvPr/>
        </p:nvSpPr>
        <p:spPr>
          <a:xfrm>
            <a:off x="380988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Brandon S. Minnery, and Daniel J. Simons J Neurophysiol 2003;89:40-56</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American Physiological Society</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irectional consistency of VPM-projecting PrV neurons (n = 72) vs.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5133960" y="6602400"/>
            <a:ext cx="4467240" cy="712800"/>
          </a:xfrm>
          <a:prstGeom prst="rect">
            <a:avLst/>
          </a:prstGeom>
          <a:ln w="0">
            <a:noFill/>
          </a:ln>
        </p:spPr>
      </p:pic>
      <p:pic>
        <p:nvPicPr>
          <p:cNvPr id="78" name="" descr=""/>
          <p:cNvPicPr/>
          <p:nvPr/>
        </p:nvPicPr>
        <p:blipFill>
          <a:blip r:embed="rId2"/>
          <a:stretch/>
        </p:blipFill>
        <p:spPr>
          <a:xfrm>
            <a:off x="1400040" y="1079640"/>
            <a:ext cx="7285320" cy="5394240"/>
          </a:xfrm>
          <a:prstGeom prst="rect">
            <a:avLst/>
          </a:prstGeom>
          <a:ln w="0">
            <a:noFill/>
          </a:ln>
        </p:spPr>
      </p:pic>
      <p:sp>
        <p:nvSpPr>
          <p:cNvPr id="79" name=""/>
          <p:cNvSpPr/>
          <p:nvPr/>
        </p:nvSpPr>
        <p:spPr>
          <a:xfrm>
            <a:off x="140004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Brandon S. Minnery, and Daniel J. Simons J Neurophysiol 2003;89:40-56</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American Physiological Society</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omparison of adaptive properties between VPM-projecting PrV neurons and NV neurons. </a:t>
            </a:r>
            <a:endParaRPr b="0" lang="en-US" sz="1600" spc="-1" strike="noStrike">
              <a:solidFill>
                <a:srgbClr val="000000"/>
              </a:solidFill>
              <a:latin typeface="Times New Roman"/>
            </a:endParaRPr>
          </a:p>
        </p:txBody>
      </p:sp>
      <p:pic>
        <p:nvPicPr>
          <p:cNvPr id="82" name="" descr=""/>
          <p:cNvPicPr/>
          <p:nvPr/>
        </p:nvPicPr>
        <p:blipFill>
          <a:blip r:embed="rId1"/>
          <a:stretch/>
        </p:blipFill>
        <p:spPr>
          <a:xfrm>
            <a:off x="5133960" y="6602400"/>
            <a:ext cx="4467240" cy="712800"/>
          </a:xfrm>
          <a:prstGeom prst="rect">
            <a:avLst/>
          </a:prstGeom>
          <a:ln w="0">
            <a:noFill/>
          </a:ln>
        </p:spPr>
      </p:pic>
      <p:pic>
        <p:nvPicPr>
          <p:cNvPr id="83" name="" descr=""/>
          <p:cNvPicPr/>
          <p:nvPr/>
        </p:nvPicPr>
        <p:blipFill>
          <a:blip r:embed="rId2"/>
          <a:stretch/>
        </p:blipFill>
        <p:spPr>
          <a:xfrm>
            <a:off x="1576440" y="1079640"/>
            <a:ext cx="6931080" cy="5394240"/>
          </a:xfrm>
          <a:prstGeom prst="rect">
            <a:avLst/>
          </a:prstGeom>
          <a:ln w="0">
            <a:noFill/>
          </a:ln>
        </p:spPr>
      </p:pic>
      <p:sp>
        <p:nvSpPr>
          <p:cNvPr id="84" name=""/>
          <p:cNvSpPr/>
          <p:nvPr/>
        </p:nvSpPr>
        <p:spPr>
          <a:xfrm>
            <a:off x="157644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Brandon S. Minnery, and Daniel J. Simons J Neurophysiol 2003;89:40-56</a:t>
            </a:r>
            <a:endParaRPr b="0" lang="en-US" sz="1200" spc="-1" strike="noStrike">
              <a:solidFill>
                <a:srgbClr val="000000"/>
              </a:solidFill>
              <a:latin typeface="Times New Roman"/>
            </a:endParaRPr>
          </a:p>
        </p:txBody>
      </p:sp>
      <p:sp>
        <p:nvSpPr>
          <p:cNvPr id="8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American Physiological Society</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